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BE5-60A4-4DBC-AC32-7E049954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608-7021-48A0-86DC-4108F07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271-13FC-45EF-852D-2FD948A2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9EC-4D23-4213-B06A-6D50CCE6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BB39-9F2C-4823-A0DA-65B5063F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D7D5-72E4-45F0-B5A4-8C309F8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50E-6E9B-4D8B-956B-C5784BE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1A7-9881-4871-9848-C37CED00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B09-308A-438A-A953-6612F12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B88B-3E66-449B-A7DC-46B6340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B3C2-54B7-450B-BC6B-69B94A8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602-5444-4919-A849-B521287B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CF9-D58B-40D1-9608-87B5D87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E88-462E-40CC-AE25-C7CFFF4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B1E6-3267-4233-BDF6-4F4B04B8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A5B-3E45-4054-84A0-7185A9B4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312-DCD2-44A8-8615-EB02E6C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26F-9B7D-4C48-81BC-B678EFA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77B-5544-46C3-AA97-DB65FFC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825-0A6B-4299-AB0D-77C9ECB9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7B4-DBF8-4251-8A90-8BD64E6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FD7-A94B-4A8E-B84D-A49DAA1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946-36AB-4179-97B0-36F962F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519-34A9-4B50-9EC0-1E8A887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E9B-E9B0-4152-BF95-28D5AA38225E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E99-D814-4C83-8083-3EFAB3C723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C06-1FB8-40FC-B7C7-E6A27A5CB389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7986-8EB7-4295-9AC3-DB681CAA7C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9961"/>
          <a:stretch/>
        </p:blipFill>
        <p:spPr>
          <a:xfrm>
            <a:off x="4038480" y="3486240"/>
            <a:ext cx="5105520" cy="3448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1752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Impact"/>
              </a:rPr>
              <a:t>Пользовательское тестирование как метод сбора требований к пользовательскому интерфейсу 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Задание 1: поместить информаци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6250" t="14002" r="18751" b="31003"/>
          <a:stretch/>
        </p:blipFill>
        <p:spPr>
          <a:xfrm>
            <a:off x="228600" y="762120"/>
            <a:ext cx="8686800" cy="398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0" y="502920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876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2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инут в среднем длилось выполнени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з них 12 минут – на исправление ошиб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8672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9 минут – время выполнения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AF8-7BD6-4C60-B304-D1C68818BA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C88A0-C219-4C26-8691-7B92C9349273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Задание 2:  для администраторов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6250" t="17001" r="66877" b="39000"/>
          <a:stretch/>
        </p:blipFill>
        <p:spPr>
          <a:xfrm>
            <a:off x="609480" y="838080"/>
            <a:ext cx="3873600" cy="3962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4876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инут в среднем длилось выполнени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4100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з них 1 мин 30 сек – на исправление ошиб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8672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8 минут – время выполнения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838080"/>
            <a:ext cx="4038480" cy="1905120"/>
          </a:xfrm>
          <a:prstGeom prst="wedgeRoundRectCallout">
            <a:avLst>
              <a:gd name="adj1" fmla="val -59550"/>
              <a:gd name="adj2" fmla="val 64500"/>
              <a:gd name="adj3" fmla="val 16667"/>
            </a:avLst>
          </a:prstGeom>
          <a:solidFill>
            <a:srgbClr val="9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экране раздачи прав, после 3 безрезультатных попыток – во время первой попытки активный поиск, на втором круге сосредоточенное молчание, на третьем «не понимаю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412-8A23-4346-9700-620CC711A8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252C7-E06C-4030-A467-095890C4149E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Цитаты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тавка картин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53684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 окном добавления картинк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А у нас нет ограничения на сайте на формат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45924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ильно удивляется, нервно смеетс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хочешь сказать, что у нее должно быть такое же название? Это несерьезно! Не серьезно… чтобы такое же название.. А может я хочу другое? Это у них такой креатив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070-CF7E-4494-8F45-94470E38C9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93BF8-D5A7-4FB6-9A25-0B146C8B11B8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Цитаты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8288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подсказки (новичок, оживленно) «Ура! Это удача! Это надо повторить, немедленно повторить!» Только после второй попытки удалось повторить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720" y="92952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Добавление ссыл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067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обавить линк – простая операция. Не понимаю, почему не получается» после двух попыток: «Я кстати так и не понял в чем разниц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FBE-89B8-4006-932D-0B6BDA5F63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66EB4-C438-4FDE-B304-78477385A1B1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Вопросы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14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B6D-9344-448E-8C65-33497E664A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AAD08-57B3-45FF-A773-DF70F34CB1E6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Этапы Юзабилити-проектирования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276720" cy="294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1052640"/>
            <a:ext cx="76294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нализ деятельности пользов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 и цель труда, операции и задачи, распределение функций, профессиональная номенкл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ставление сцена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-case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тотипирование экр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, Front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бумаге карандаш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льзовательское тес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118-A3DB-442E-B6A7-8B856FD332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BDEBE-6CB4-4404-B8C6-5EB7C5121303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0" b="15295"/>
          <a:stretch/>
        </p:blipFill>
        <p:spPr>
          <a:xfrm>
            <a:off x="5105520" y="1371600"/>
            <a:ext cx="427500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Что делать, если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343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ьзователи говорят -  «неудобно», но не могут сказать, что именн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828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9907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редметной области недостаточны для формулировки полного списка треб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819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ычные средства анализа оказались неэффектив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2767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метная область обладает ярко выраженной специфи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3341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а вам необходимо сформулировать четкие требования к интерфейс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295-1DC1-4E92-8DAE-BD27B931D9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76340-13AC-4EA4-A6AA-03F3076CD43E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Юзабилити тестирование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нструмент для сбора требова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895480"/>
            <a:ext cx="80773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фиксировать эмоциональные состояния пользовател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 используемые (естественные) сценар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разрыва между пользовательскими ожиданиями, знаниями и интерфейс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фиксировать пожелания, возникающие в текущем контекст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952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писок требований с нуля или дополнить существу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128-9DD8-4466-B67F-E5CAE182A4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F61EC-522F-4270-84FD-4F23ADBD14D7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Юзабилити тестирование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9880" y="53352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4792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серию тестиров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прото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0666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ы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экспертную оцен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брать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за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95468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ершающ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ализа протоколов переработать в требования к интерфейсу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1844640"/>
            <a:ext cx="3429000" cy="308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963-79F8-4599-945A-EC0F1A2ADE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A97A1-576E-45F6-8AD0-F4C60A7A37C8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tlassian Confluenc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16073" r="0" b="17623"/>
          <a:stretch/>
        </p:blipFill>
        <p:spPr>
          <a:xfrm>
            <a:off x="762120" y="709560"/>
            <a:ext cx="7619760" cy="576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9C9-CF61-40DC-94FB-0ABEFD63B0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AE732-7EAA-45E1-AC07-E59A834B3841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fluence Page: Edit Mo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13061" r="0" b="0"/>
          <a:stretch/>
        </p:blipFill>
        <p:spPr>
          <a:xfrm>
            <a:off x="4191120" y="685800"/>
            <a:ext cx="449244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11535" r="0" b="3037"/>
          <a:stretch/>
        </p:blipFill>
        <p:spPr>
          <a:xfrm>
            <a:off x="609480" y="914400"/>
            <a:ext cx="5131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80D-58CB-442C-AD04-D5D3758EAA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D6812-B02B-462D-832E-2FBEA4B899A3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5519" t="40371" r="4599" b="49745"/>
          <a:stretch/>
        </p:blipFill>
        <p:spPr>
          <a:xfrm>
            <a:off x="914400" y="838080"/>
            <a:ext cx="1981080" cy="84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4047" t="40375" r="0" b="49745"/>
          <a:stretch/>
        </p:blipFill>
        <p:spPr>
          <a:xfrm>
            <a:off x="6095880" y="304920"/>
            <a:ext cx="2438640" cy="850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6876" t="10938" r="35000" b="22212"/>
          <a:stretch/>
        </p:blipFill>
        <p:spPr>
          <a:xfrm>
            <a:off x="4038480" y="1295280"/>
            <a:ext cx="5105520" cy="469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6873" t="11721" r="35626" b="31253"/>
          <a:stretch/>
        </p:blipFill>
        <p:spPr>
          <a:xfrm>
            <a:off x="228600" y="1952640"/>
            <a:ext cx="5257800" cy="41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570-D03D-4EA4-8654-EBEB86F91A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6526C-3937-4EB9-8131-0A6AB233886C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Результаты интервь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4479840" y="3292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5001" t="16000" r="26875" b="41003"/>
          <a:stretch/>
        </p:blipFill>
        <p:spPr>
          <a:xfrm>
            <a:off x="380880" y="1066680"/>
            <a:ext cx="8229600" cy="3805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05120" y="4876920"/>
            <a:ext cx="533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 из 11 пользовались поис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5410080"/>
            <a:ext cx="5334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7 из 11 нужна была помощ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8672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9 из 11 испытывали трудности при навиг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ина Зотова | Allileja@gmail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23A-0ED6-4CCC-9617-9D9D204034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0A40E-5ED0-47A4-BBEF-837091841511}" type="datetime1">
              <a:rPr lang="en-US"/>
              <a:t>07/30/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1:02:41Z</dcterms:created>
  <dc:creator>alinka</dc:creator>
  <dc:description/>
  <cp:keywords/>
  <dc:language>en-US</dc:language>
  <cp:lastModifiedBy>1С</cp:lastModifiedBy>
  <dcterms:modified xsi:type="dcterms:W3CDTF">2006-11-14T11:12:58Z</dcterms:modified>
  <cp:revision>25</cp:revision>
  <dc:subject/>
  <dc:title> ПРОЕКТИРОВАНИЕ ЭРГОНОМИЧНОГО ИНТЕРФЕЙСА ДЛЯ СИСТЕМЫ СОПРОВОЖДЕНИЯ ДЕТЕЙ В ЦПМССДИП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