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D7A-744C-487F-83EA-DDDB70B096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ервый вариант:  Web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отличие от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Особенности проек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интерфей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95E-BD51-4C2F-AA91-E8B54E9E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722-B1F7-4E82-8D7D-9B0871A3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45A-866E-4A0E-9AA8-2660B65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152-B40F-4D67-BF7F-653236A4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2D5-5341-4F42-93ED-9A4EC48F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7B8A-FEE9-4CB5-84FA-93C8360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9F33-5C19-4B73-A66C-941F700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5B0C-5E7C-4D9C-8D10-68C2401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373B-69CF-494A-A803-4C7048B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9A1-A8F5-4111-9304-39FBDFF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E3C3-2CF3-41C0-9906-6847304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8AA-7ED9-4991-8F67-AA5F727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C8C-0257-4CE5-B269-938FDF3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B993-76C5-432D-BBB7-D309360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B00-7BAC-4DAE-BB9D-3B41E7CA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E2D0-D1DD-4494-B697-C490F7AD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DB29-423C-4128-9CE2-22F803A3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8DF-A4FD-4D36-B1D3-E6C18C13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2EA-5C5C-4950-87A8-88E64FAC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D7C-CBD3-4B61-A14F-C273DDE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8C4-5808-4F87-A71E-836DAAF0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A39-FEA5-440F-B776-22886C91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03E-317C-4DBA-8326-86AAF6D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905-4D8E-4EC2-A360-6987F0A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1DD-2AF7-4D9A-8422-3DF892C62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170A-CAA3-43C0-B8E2-A6034C327D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orua@machaon.ru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Веб-юзабилит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спертиза или тестирование, что эффективн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иза выявляет большую часть проблем и позволяет спроектировать улучшенный сай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 сайта близок к реальному сайту, что позволяет проводить эффективное тестирование при минимальных затра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воните, пиши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алов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orua@macha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95) 725 79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ти улучшения сай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забилити-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забилити-эксперт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Юзабилити-тес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л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р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Юзабилити-эксперти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ыст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дор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ализ задач посетителя сай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е задачи посетителя сайта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ор программного проду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информацию по игр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оиться на рабо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исать статью – обзор ры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бор программного проду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92360" y="1628640"/>
            <a:ext cx="6394320" cy="4781520"/>
            <a:chOff x="1692360" y="1628640"/>
            <a:chExt cx="6394320" cy="47815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692360" y="1628640"/>
              <a:ext cx="6394320" cy="47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1692360" y="1628640"/>
              <a:ext cx="6394320" cy="478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йти информацию по игр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92360" y="1628640"/>
            <a:ext cx="6394320" cy="4781520"/>
            <a:chOff x="1692360" y="1628640"/>
            <a:chExt cx="6394320" cy="4781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692360" y="1628640"/>
              <a:ext cx="6394320" cy="47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1692360" y="1628640"/>
              <a:ext cx="6394320" cy="478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Устроиться на работ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мог разместить пример – не придумал, как разместить страницу в тридцать экр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писать статью – обзор ры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1628640"/>
            <a:ext cx="6408720" cy="4530960"/>
            <a:chOff x="1619280" y="1628640"/>
            <a:chExt cx="6408720" cy="45309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1628640"/>
              <a:ext cx="6408720" cy="45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1619280" y="1628640"/>
              <a:ext cx="6408720" cy="453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13:25:40Z</dcterms:created>
  <dc:creator>DrMorua</dc:creator>
  <dc:description/>
  <dc:language>en-US</dc:language>
  <cp:lastModifiedBy>morua</cp:lastModifiedBy>
  <dcterms:modified xsi:type="dcterms:W3CDTF">2006-11-14T10:56:52Z</dcterms:modified>
  <cp:revision>193</cp:revision>
  <dc:subject/>
  <dc:title>Test</dc:title>
</cp:coreProperties>
</file>