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36.jpeg" ContentType="image/jpeg"/>
  <Override PartName="/ppt/media/image20.png" ContentType="image/png"/>
  <Override PartName="/ppt/media/image37.jpeg" ContentType="image/jpeg"/>
  <Override PartName="/ppt/media/image30.png" ContentType="image/png"/>
  <Override PartName="/ppt/media/image6.jpeg" ContentType="image/jpeg"/>
  <Override PartName="/ppt/media/image60.png" ContentType="image/png"/>
  <Override PartName="/ppt/media/image5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10.jpeg" ContentType="image/jpeg"/>
  <Override PartName="/ppt/media/image4.jpeg" ContentType="image/jpeg"/>
  <Override PartName="/ppt/media/image61.jpeg" ContentType="image/jpeg"/>
  <Override PartName="/ppt/media/image25.png" ContentType="image/png"/>
  <Override PartName="/ppt/media/image15.png" ContentType="image/png"/>
  <Override PartName="/ppt/media/image9.jpeg" ContentType="image/jpeg"/>
  <Override PartName="/ppt/media/image11.jpeg" ContentType="image/jpeg"/>
  <Override PartName="/ppt/media/image24.png" ContentType="image/png"/>
  <Override PartName="/ppt/media/image49.jpeg" ContentType="image/jpeg"/>
  <Override PartName="/ppt/media/image31.png" ContentType="image/png"/>
  <Override PartName="/ppt/media/image65.jpeg" ContentType="image/jpeg"/>
  <Override PartName="/ppt/media/image38.png" ContentType="image/png"/>
  <Override PartName="/ppt/media/image63.jpeg" ContentType="image/jpeg"/>
  <Override PartName="/ppt/media/image29.png" ContentType="image/png"/>
  <Override PartName="/ppt/media/image17.png" ContentType="image/png"/>
  <Override PartName="/ppt/media/image27.png" ContentType="image/png"/>
  <Override PartName="/ppt/media/image22.png" ContentType="image/png"/>
  <Override PartName="/ppt/media/image58.png" ContentType="image/png"/>
  <Override PartName="/ppt/media/image21.png" ContentType="image/png"/>
  <Override PartName="/ppt/media/image62.jpeg" ContentType="image/jpeg"/>
  <Override PartName="/ppt/media/image19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2.jpeg" ContentType="image/jpeg"/>
  <Override PartName="/ppt/media/image8.jpeg" ContentType="image/jpeg"/>
  <Override PartName="/ppt/media/image26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3.png" ContentType="image/png"/>
  <Override PartName="/ppt/media/image34.jpeg" ContentType="image/jpeg"/>
  <Override PartName="/ppt/media/image35.jpeg" ContentType="image/jpeg"/>
  <Override PartName="/ppt/media/image47.png" ContentType="image/png"/>
  <Override PartName="/ppt/media/image64.jpeg" ContentType="image/jpeg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50.jpeg" ContentType="image/jpeg"/>
  <Override PartName="/ppt/media/image51.jpeg" ContentType="image/jpeg"/>
  <Override PartName="/ppt/media/image1.png" ContentType="image/png"/>
  <Override PartName="/ppt/media/image52.jpeg" ContentType="image/jpeg"/>
  <Override PartName="/ppt/media/image5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776-C677-4133-952C-D2A53DA5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FBB-7753-498D-94C5-DBB45249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E4E-9967-4218-9536-4B1342BF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F56-31E7-4F09-A928-BD29C275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04E6-CFBF-41AF-B566-4FE68100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D00B-D642-424A-A7EB-3DB3F3F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8D79-5DE2-4382-9EC6-F016AFA7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351C-D689-4322-A074-9D92CD44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9419-2959-4EB7-96CC-51720438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5280" y="2997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2D3F-EA8F-4939-813F-C3C46D60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6EEB-5B21-460C-B108-14D144BD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21A-A91C-4B10-BFAA-2E1499C8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E3EE-F1AF-45D4-A8BB-53EF344B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CD22-0BEA-423A-9B44-F1EF9E6F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5574-F6CE-4D3B-B344-3A785910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5BB9-3AB5-4075-AB19-E2EC0741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B011-5BBF-4C76-B576-06255960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4A65-09C7-44C4-B151-3511B56F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98E8-06CA-4941-82D9-50AC711F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ED2A-73E1-4E06-9BC9-E99EE27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00F5-9E07-49F9-9FCA-F18CEC6E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EABF-F06D-45A8-AB36-81C81BBA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1E9-7141-46B1-8EEB-7EA9FD36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5280" y="2997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8F2B-727E-438B-8EBA-BD74D410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C41F-7C5A-459F-9449-D02516DF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4E723-76A9-49B2-B697-61C7B34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CEA3-53EB-47E3-AE4D-4FF9959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0021-EB59-4A9D-807C-E2CEC4A3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E57AA-860A-42E9-9A9B-7CCC6CDA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6EE0-6186-43AD-B4CE-6C509656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325-0464-451C-8C2C-6FF74115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AD8-533D-4165-950E-1FC3094A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997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E7B-3DEE-4D9F-8476-30BCE3E6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5D1-395C-40BC-AE10-784BB85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12B-6FB9-42A9-85E3-53E086E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C0E-7A94-4CD9-BCD9-1F51843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3E6-396F-4FF8-B0D7-0EBE4E0B1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6920" y="3103560"/>
            <a:ext cx="77058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36000" bIns="36000" anchor="t" anchorCtr="1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5c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5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E15D-1909-4F25-B564-752353B33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097A-2750-4FD2-AC15-9C19ACC17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103560"/>
            <a:ext cx="77058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36000" bIns="36000" anchor="t" anchorCtr="1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5c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tobii.se/imgs/Eye%20Tracker%20Tobii%20x50_front_left_logo.jpg" TargetMode="External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d.satin@usabilitylab.ru" TargetMode="External"/><Relationship Id="rId2" Type="http://schemas.openxmlformats.org/officeDocument/2006/relationships/hyperlink" Target="http://usabilitylab.ru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5ce"/>
                </a:solidFill>
                <a:latin typeface="Tahoma"/>
              </a:rPr>
              <a:t>Современные технологии проведения </a:t>
            </a:r>
            <a:r>
              <a:rPr b="0" lang="en-US" sz="3600" spc="-1" strike="noStrike">
                <a:solidFill>
                  <a:srgbClr val="0095ce"/>
                </a:solidFill>
                <a:latin typeface="Tahoma"/>
              </a:rPr>
              <a:t>Usability-</a:t>
            </a:r>
            <a:r>
              <a:rPr b="0" lang="ru-RU" sz="3600" spc="-1" strike="noStrike">
                <a:solidFill>
                  <a:srgbClr val="0095ce"/>
                </a:solidFill>
                <a:latin typeface="Tahoma"/>
              </a:rPr>
              <a:t>тестирования</a:t>
            </a:r>
            <a:endParaRPr b="0" lang="en-US" sz="36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5227560"/>
            <a:ext cx="3168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Tahoma"/>
              </a:rPr>
              <a:t>Дмитрий Сат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Как это было раньше?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3200" y="1558800"/>
            <a:ext cx="6383520" cy="5183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588000" y="1562040"/>
            <a:ext cx="273708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1. Штатив для кам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2. Сумка для аппа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3. Видеомагнито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4. ДУ для видеомагнитоф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7. Видеокам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8. Науш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10. ДУ для кам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15. Соединительные шн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17. Микро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5ce"/>
                </a:solidFill>
                <a:latin typeface="Tahoma"/>
              </a:rPr>
              <a:t>22. Инстр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95c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298600"/>
            <a:ext cx="3198600" cy="3291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87280" y="639720"/>
            <a:ext cx="3499200" cy="1108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63600" y="1900080"/>
            <a:ext cx="32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GHT YOU CAN 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901440" cy="482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211640" y="2276640"/>
            <a:ext cx="1792440" cy="495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2700360" y="2532240"/>
            <a:ext cx="1093680" cy="392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427640" y="3002040"/>
            <a:ext cx="731880" cy="282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3348000" y="6165720"/>
            <a:ext cx="1562040" cy="39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223920" y="3693960"/>
            <a:ext cx="933480" cy="586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1576440" y="3710160"/>
            <a:ext cx="1087560" cy="51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3092400" y="3538440"/>
            <a:ext cx="890640" cy="959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4356000" y="3645000"/>
            <a:ext cx="1222560" cy="687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>
            <a:off x="5435640" y="6093000"/>
            <a:ext cx="1485720" cy="463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1332000" y="2997360"/>
            <a:ext cx="1164960" cy="382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4"/>
          <a:stretch/>
        </p:blipFill>
        <p:spPr>
          <a:xfrm>
            <a:off x="301680" y="4794120"/>
            <a:ext cx="1000080" cy="333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5"/>
          <a:stretch/>
        </p:blipFill>
        <p:spPr>
          <a:xfrm>
            <a:off x="1662120" y="4767120"/>
            <a:ext cx="782640" cy="554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6"/>
          <a:stretch/>
        </p:blipFill>
        <p:spPr>
          <a:xfrm>
            <a:off x="468360" y="5445000"/>
            <a:ext cx="934920" cy="817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7"/>
          <a:stretch/>
        </p:blipFill>
        <p:spPr>
          <a:xfrm>
            <a:off x="1908000" y="5950080"/>
            <a:ext cx="1206720" cy="504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8"/>
          <a:stretch/>
        </p:blipFill>
        <p:spPr>
          <a:xfrm>
            <a:off x="1835280" y="5513400"/>
            <a:ext cx="1214280" cy="291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9"/>
          <a:stretch/>
        </p:blipFill>
        <p:spPr>
          <a:xfrm>
            <a:off x="3635280" y="5445000"/>
            <a:ext cx="2559240" cy="743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0"/>
          <a:stretch/>
        </p:blipFill>
        <p:spPr>
          <a:xfrm>
            <a:off x="4788000" y="4581360"/>
            <a:ext cx="57780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508720" y="2298600"/>
            <a:ext cx="3198600" cy="3291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187280" y="639720"/>
            <a:ext cx="3499200" cy="1108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263600" y="1900080"/>
            <a:ext cx="32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GHT YOU CAN 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349360"/>
            <a:ext cx="5832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95ce"/>
                </a:solidFill>
                <a:latin typeface="Tahoma"/>
              </a:rPr>
              <a:t>Полностью цифровое реш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5ce"/>
                </a:solidFill>
                <a:latin typeface="Tahoma"/>
              </a:rPr>
              <a:t>- Уменьшает стоимость и сложность аппа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95ce"/>
                </a:solidFill>
                <a:latin typeface="Tahoma"/>
              </a:rPr>
              <a:t>Действительно портатив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5ce"/>
                </a:solidFill>
                <a:latin typeface="Tahoma"/>
              </a:rPr>
              <a:t>- Берите куда угодно, установив на ноутб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95ce"/>
                </a:solidFill>
                <a:latin typeface="Tahoma"/>
              </a:rPr>
              <a:t>Улучше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95ce"/>
                </a:solidFill>
                <a:latin typeface="Tahoma"/>
              </a:rPr>
              <a:t>Эксклюзивная технология</a:t>
            </a:r>
            <a:r>
              <a:rPr b="0" lang="en-US" sz="1800" spc="-1" strike="noStrike">
                <a:solidFill>
                  <a:srgbClr val="0095ce"/>
                </a:solidFill>
                <a:latin typeface="Tahoma"/>
              </a:rPr>
              <a:t> Rich Reco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95ce"/>
                </a:solidFill>
                <a:latin typeface="Tahoma"/>
              </a:rPr>
              <a:t>Просто установить и использ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5ce"/>
                </a:solidFill>
                <a:latin typeface="Tahoma"/>
              </a:rPr>
              <a:t>- На разворачивание нужно 10-2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3499200" cy="1108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63600" y="1900080"/>
            <a:ext cx="32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GHT YOU CAN 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03800" y="1874880"/>
            <a:ext cx="271620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5ce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95ce"/>
                </a:solidFill>
                <a:latin typeface="Arial"/>
              </a:rPr>
              <a:t>компон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0095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Arial"/>
              </a:rPr>
              <a:t>Rec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0095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Arial"/>
              </a:rPr>
              <a:t>Remote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0095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516720" y="225108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532560" y="2538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532560" y="282744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627280" y="3384720"/>
            <a:ext cx="6523200" cy="34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1280" y="4076640"/>
            <a:ext cx="24847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5ce"/>
                </a:solidFill>
                <a:latin typeface="Arial"/>
              </a:rPr>
              <a:t>Те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5ce"/>
                </a:solidFill>
                <a:latin typeface="Arial"/>
              </a:rPr>
              <a:t>После тес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3499200" cy="1108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63600" y="1900080"/>
            <a:ext cx="32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GHT YOU CAN 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630600" y="1771560"/>
            <a:ext cx="5334120" cy="4826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8000" y="2060640"/>
            <a:ext cx="439272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Tahoma"/>
              </a:rPr>
              <a:t>Видео/Ауд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Tahoma"/>
              </a:rPr>
              <a:t>Изображение экрана 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Tahoma"/>
              </a:rPr>
              <a:t>Переходы между экра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Tahoma"/>
              </a:rPr>
              <a:t>Использование мы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Tahoma"/>
              </a:rPr>
              <a:t>Использование клави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Tahoma"/>
              </a:rPr>
              <a:t>Манипуляции ок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5c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Tahoma"/>
              </a:rPr>
              <a:t>Марк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3499200" cy="110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263600" y="1900080"/>
            <a:ext cx="32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GHT YOU CAN 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5516640"/>
            <a:ext cx="61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5ce"/>
                </a:solidFill>
                <a:latin typeface="Arial"/>
              </a:rPr>
              <a:t>Morae Remot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5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5ce"/>
                </a:solidFill>
                <a:latin typeface="Arial"/>
              </a:rPr>
              <a:t>Позволяет нескольким наблюдателям смотреть и процесс тестирования, делать за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9640" y="2232000"/>
            <a:ext cx="6070680" cy="3141720"/>
            <a:chOff x="539640" y="2232000"/>
            <a:chExt cx="6070680" cy="3141720"/>
          </a:xfrm>
        </p:grpSpPr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39640" y="2232000"/>
              <a:ext cx="6070680" cy="31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3347280" y="2671560"/>
              <a:ext cx="530640" cy="4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2360880" y="4619520"/>
              <a:ext cx="531000" cy="4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5"/>
            <a:stretch/>
          </p:blipFill>
          <p:spPr>
            <a:xfrm>
              <a:off x="6154920" y="2985840"/>
              <a:ext cx="30348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6154920" y="3677040"/>
              <a:ext cx="30348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154920" y="4430880"/>
              <a:ext cx="30348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8"/>
            <a:stretch/>
          </p:blipFill>
          <p:spPr>
            <a:xfrm>
              <a:off x="6154920" y="5122080"/>
              <a:ext cx="303480" cy="25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3499200" cy="1108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63600" y="1900080"/>
            <a:ext cx="32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GHT YOU CAN 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67708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5ce"/>
                </a:solidFill>
                <a:latin typeface="Arial"/>
              </a:rPr>
              <a:t>Mora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5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5ce"/>
                </a:solidFill>
                <a:latin typeface="Arial"/>
              </a:rPr>
              <a:t>Синхронизирует записи тес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5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5ce"/>
                </a:solidFill>
                <a:latin typeface="Arial"/>
              </a:rPr>
              <a:t>Быстро подсчитывает частотные и временные 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5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5ce"/>
                </a:solidFill>
                <a:latin typeface="Arial"/>
              </a:rPr>
              <a:t>Легко создает видеоот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43160" y="6508800"/>
            <a:ext cx="22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5ce"/>
                </a:solidFill>
                <a:latin typeface="Arial"/>
              </a:rPr>
              <a:t>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6508800"/>
            <a:ext cx="22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5ce"/>
                </a:solidFill>
                <a:latin typeface="Arial"/>
              </a:rPr>
              <a:t>PRES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5440" y="3470400"/>
            <a:ext cx="3886200" cy="3019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440240" y="3468600"/>
            <a:ext cx="387684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gency FB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39640" y="1530360"/>
            <a:ext cx="28591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18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Electron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wlett-Pack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il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s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ant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ple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ant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Tele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7760" y="1530360"/>
            <a:ext cx="264780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ts val="18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utomo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mlerChrys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s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y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erosp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ra BAe Dyna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Transpor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s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65760" y="1530360"/>
            <a:ext cx="322416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18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Consul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Management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n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NO Human F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centric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Information / Fin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cl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 J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W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bo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.S. Bureau of Labor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.S. Bureau of the Cen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aho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Consumer Produ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le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man Mi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ts val="1800"/>
              </a:lnSpc>
              <a:spcBef>
                <a:spcPts val="349"/>
              </a:spcBef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Dona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27040" y="1725480"/>
            <a:ext cx="7932600" cy="4583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gency FB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96920" y="1614600"/>
            <a:ext cx="8839080" cy="5127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9c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Что такое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Usability-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тестирование?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5ce"/>
                </a:solidFill>
                <a:latin typeface="Arial"/>
              </a:rPr>
              <a:t>Экспериментальный метод, построенный на интервьюировании пользователей по заранее составленному сценарию, и направленный на выяснение того, как пользователи используют проду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619280" y="1930320"/>
            <a:ext cx="5735520" cy="437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1680" y="4549680"/>
            <a:ext cx="112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Vid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440" y="184464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51080" y="5896080"/>
            <a:ext cx="11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18320" y="1700280"/>
            <a:ext cx="120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UI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443280" y="2722680"/>
            <a:ext cx="1676520" cy="1066680"/>
          </a:xfrm>
          <a:prstGeom prst="line">
            <a:avLst/>
          </a:prstGeom>
          <a:ln w="38160">
            <a:solidFill>
              <a:srgbClr val="f6d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5084640"/>
            <a:ext cx="1871640" cy="720720"/>
          </a:xfrm>
          <a:prstGeom prst="line">
            <a:avLst/>
          </a:prstGeom>
          <a:ln w="38160">
            <a:solidFill>
              <a:srgbClr val="f6d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724360" y="5805000"/>
            <a:ext cx="1872000" cy="287640"/>
          </a:xfrm>
          <a:prstGeom prst="line">
            <a:avLst/>
          </a:prstGeom>
          <a:ln w="38160">
            <a:solidFill>
              <a:srgbClr val="f6d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2421000"/>
            <a:ext cx="1860480" cy="1120680"/>
          </a:xfrm>
          <a:prstGeom prst="line">
            <a:avLst/>
          </a:prstGeom>
          <a:ln w="25560">
            <a:solidFill>
              <a:srgbClr val="f6d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07320" y="3645000"/>
            <a:ext cx="120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95ce"/>
                </a:solidFill>
                <a:latin typeface="Verdana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732360" y="4653000"/>
            <a:ext cx="1657080" cy="777960"/>
          </a:xfrm>
          <a:prstGeom prst="line">
            <a:avLst/>
          </a:prstGeom>
          <a:ln w="38160">
            <a:solidFill>
              <a:srgbClr val="f6d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13440" y="4149720"/>
            <a:ext cx="3095640" cy="2392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013440" y="1628640"/>
            <a:ext cx="3025800" cy="2338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611280" y="2349360"/>
            <a:ext cx="4824360" cy="3515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11280" y="6094440"/>
            <a:ext cx="496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School of Computing, UNISA, 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413000"/>
            <a:ext cx="511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5ce"/>
                </a:solidFill>
                <a:latin typeface="Arial"/>
              </a:rPr>
              <a:t>Портатив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95280" y="1557360"/>
            <a:ext cx="856944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095ce"/>
                </a:solidFill>
                <a:latin typeface="Tahoma"/>
              </a:rPr>
              <a:t>Mobile Device Camera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100" spc="-1" strike="noStrike">
                <a:solidFill>
                  <a:srgbClr val="0095ce"/>
                </a:solidFill>
                <a:latin typeface="Verdana"/>
              </a:rPr>
              <a:t>Беспроводная камера для </a:t>
            </a:r>
            <a:r>
              <a:rPr b="0" lang="en-US" sz="2100" spc="-1" strike="noStrike">
                <a:solidFill>
                  <a:srgbClr val="0095ce"/>
                </a:solidFill>
                <a:latin typeface="Verdana"/>
              </a:rPr>
              <a:t>usability-</a:t>
            </a:r>
            <a:r>
              <a:rPr b="0" lang="ru-RU" sz="2100" spc="-1" strike="noStrike">
                <a:solidFill>
                  <a:srgbClr val="0095ce"/>
                </a:solidFill>
                <a:latin typeface="Verdana"/>
              </a:rPr>
              <a:t>тестирования мобильных устройств и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60840" y="4508640"/>
            <a:ext cx="766800" cy="0"/>
          </a:xfrm>
          <a:prstGeom prst="line">
            <a:avLst/>
          </a:prstGeom>
          <a:ln w="76320">
            <a:solidFill>
              <a:srgbClr val="0095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3313440" cy="2489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372360" y="4724280"/>
            <a:ext cx="2535120" cy="1890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04720" y="2781360"/>
            <a:ext cx="2914920" cy="371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9c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pic>
        <p:nvPicPr>
          <p:cNvPr id="257" name="Eye%20Tracker%20Tobii%20x50_21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62640" y="4437000"/>
            <a:ext cx="2241360" cy="14256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501560"/>
            <a:ext cx="8137440" cy="18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spcBef>
                <a:spcPts val="700"/>
              </a:spcBef>
              <a:buNone/>
              <a:tabLst>
                <a:tab algn="l" pos="0"/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95ce"/>
                </a:solidFill>
                <a:latin typeface="Arial"/>
              </a:rPr>
              <a:t>Eye tracking &amp;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51"/>
              </a:spcBef>
              <a:buClr>
                <a:srgbClr val="0095ce"/>
              </a:buClr>
              <a:buFont typeface="Arial"/>
              <a:buChar char="•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800" spc="-1" strike="noStrike">
                <a:solidFill>
                  <a:srgbClr val="0095ce"/>
                </a:solidFill>
                <a:latin typeface="Arial"/>
              </a:rPr>
              <a:t>Инфракрасная камера записывает движение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51"/>
              </a:spcBef>
              <a:buClr>
                <a:srgbClr val="0095ce"/>
              </a:buClr>
              <a:buFont typeface="Arial"/>
              <a:buChar char="•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800" spc="-1" strike="noStrike">
                <a:solidFill>
                  <a:srgbClr val="0095ce"/>
                </a:solidFill>
                <a:latin typeface="Arial"/>
              </a:rPr>
              <a:t>Крепится на голове, к монитору, или размещается на ст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51"/>
              </a:spcBef>
              <a:buClr>
                <a:srgbClr val="0095ce"/>
              </a:buClr>
              <a:buFont typeface="Arial"/>
              <a:buChar char="•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800" spc="-1" strike="noStrike">
                <a:solidFill>
                  <a:srgbClr val="0095ce"/>
                </a:solidFill>
                <a:latin typeface="Arial"/>
              </a:rPr>
              <a:t>Анализ</a:t>
            </a:r>
            <a:r>
              <a:rPr b="1" lang="en-US" sz="1800" spc="-1" strike="noStrike">
                <a:solidFill>
                  <a:srgbClr val="0095ce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95ce"/>
                </a:solidFill>
                <a:latin typeface="Arial"/>
              </a:rPr>
              <a:t>движения глаз</a:t>
            </a:r>
            <a:r>
              <a:rPr b="1" lang="en-US" sz="1800" spc="-1" strike="noStrike">
                <a:solidFill>
                  <a:srgbClr val="0095ce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95ce"/>
                </a:solidFill>
                <a:latin typeface="Arial"/>
              </a:rPr>
              <a:t>«тепловые карты», зоны инте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51"/>
              </a:spcBef>
              <a:buClr>
                <a:srgbClr val="0095ce"/>
              </a:buClr>
              <a:buFont typeface="Arial"/>
              <a:buChar char="•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800" spc="-1" strike="noStrike">
                <a:solidFill>
                  <a:srgbClr val="0095ce"/>
                </a:solidFill>
                <a:latin typeface="Arial"/>
              </a:rPr>
              <a:t>Дорого, но очень то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55760" y="3500280"/>
            <a:ext cx="3384360" cy="2814840"/>
          </a:xfrm>
          <a:prstGeom prst="rect">
            <a:avLst/>
          </a:prstGeom>
          <a:ln w="0">
            <a:noFill/>
          </a:ln>
        </p:spPr>
      </p:pic>
      <p:pic>
        <p:nvPicPr>
          <p:cNvPr id="260" name="hotspot" descr=""/>
          <p:cNvPicPr/>
          <p:nvPr/>
        </p:nvPicPr>
        <p:blipFill>
          <a:blip r:embed="rId5"/>
          <a:stretch/>
        </p:blipFill>
        <p:spPr>
          <a:xfrm>
            <a:off x="6800760" y="3213000"/>
            <a:ext cx="1731960" cy="3394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27400" y="6580080"/>
            <a:ext cx="131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100" spc="-1" strike="noStrike">
                <a:solidFill>
                  <a:srgbClr val="0095ce"/>
                </a:solidFill>
                <a:latin typeface="Verdana"/>
              </a:rPr>
              <a:t>Tobii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5200" y="1798560"/>
            <a:ext cx="571680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18003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2800" spc="-1" strike="noStrike">
                <a:solidFill>
                  <a:srgbClr val="0095ce"/>
                </a:solidFill>
                <a:latin typeface="Arial"/>
              </a:rPr>
              <a:t>Анализ взгля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451"/>
              </a:spcBef>
              <a:buNone/>
              <a:tabLst>
                <a:tab algn="l" pos="18003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095ce"/>
              </a:buClr>
              <a:buFont typeface="Arial"/>
              <a:buChar char="•"/>
              <a:tabLst>
                <a:tab algn="l" pos="18003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2400" spc="-1" strike="noStrike">
                <a:solidFill>
                  <a:srgbClr val="0095ce"/>
                </a:solidFill>
                <a:latin typeface="Arial"/>
              </a:rPr>
              <a:t>Измерения</a:t>
            </a:r>
            <a:r>
              <a:rPr b="1" lang="en-US" sz="2400" spc="-1" strike="noStrike">
                <a:solidFill>
                  <a:srgbClr val="0095c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22200">
              <a:spcBef>
                <a:spcPts val="499"/>
              </a:spcBef>
              <a:buClr>
                <a:srgbClr val="0095ce"/>
              </a:buClr>
              <a:buFont typeface="Arial"/>
              <a:buChar char="–"/>
              <a:tabLst>
                <a:tab algn="l" pos="18003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2000" spc="-1" strike="noStrike">
                <a:solidFill>
                  <a:srgbClr val="0095ce"/>
                </a:solidFill>
                <a:latin typeface="Arial"/>
              </a:rPr>
              <a:t>Куда пользователь смот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22200">
              <a:spcBef>
                <a:spcPts val="499"/>
              </a:spcBef>
              <a:buClr>
                <a:srgbClr val="0095ce"/>
              </a:buClr>
              <a:buFont typeface="Arial"/>
              <a:buChar char="–"/>
              <a:tabLst>
                <a:tab algn="l" pos="18003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2000" spc="-1" strike="noStrike">
                <a:solidFill>
                  <a:srgbClr val="0095ce"/>
                </a:solidFill>
                <a:latin typeface="Arial"/>
              </a:rPr>
              <a:t>Как долго и как часто он смотрит на определен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22200">
              <a:spcBef>
                <a:spcPts val="499"/>
              </a:spcBef>
              <a:buClr>
                <a:srgbClr val="0095ce"/>
              </a:buClr>
              <a:buFont typeface="Arial"/>
              <a:buChar char="–"/>
              <a:tabLst>
                <a:tab algn="l" pos="18003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2000" spc="-1" strike="noStrike">
                <a:solidFill>
                  <a:srgbClr val="0095ce"/>
                </a:solidFill>
                <a:latin typeface="Arial"/>
              </a:rPr>
              <a:t>Путь глаз между определенными зонами интер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22200">
              <a:spcBef>
                <a:spcPts val="499"/>
              </a:spcBef>
              <a:buClr>
                <a:srgbClr val="0095ce"/>
              </a:buClr>
              <a:buFont typeface="Arial"/>
              <a:buChar char="–"/>
              <a:tabLst>
                <a:tab algn="l" pos="18003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2000" spc="-1" strike="noStrike">
                <a:solidFill>
                  <a:srgbClr val="0095ce"/>
                </a:solidFill>
                <a:latin typeface="Arial"/>
              </a:rPr>
              <a:t>Диаметр зрачка, как индикатор когнитивной нагру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buNone/>
              <a:tabLst>
                <a:tab algn="l" pos="18003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ivHED" descr="ivHED.jpg (13309 bytes)"/>
          <p:cNvPicPr/>
          <p:nvPr/>
        </p:nvPicPr>
        <p:blipFill>
          <a:blip r:embed="rId2"/>
          <a:srcRect l="2456" t="0" r="0" b="0"/>
          <a:stretch/>
        </p:blipFill>
        <p:spPr>
          <a:xfrm>
            <a:off x="6516720" y="1666800"/>
            <a:ext cx="2085840" cy="2440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527880" y="4221000"/>
            <a:ext cx="207648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11280" y="1484280"/>
            <a:ext cx="24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5ce"/>
                </a:solidFill>
                <a:latin typeface="Arial"/>
              </a:rPr>
              <a:t>Альтерна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32720" y="6093000"/>
            <a:ext cx="22366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ru-RU" sz="1300" spc="-1" strike="noStrike">
                <a:solidFill>
                  <a:srgbClr val="0095ce"/>
                </a:solidFill>
                <a:latin typeface="Verdana"/>
              </a:rPr>
              <a:t>В маши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4040" y="5373720"/>
            <a:ext cx="2376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ru-RU" sz="1300" spc="-1" strike="noStrike">
                <a:solidFill>
                  <a:srgbClr val="0095ce"/>
                </a:solidFill>
                <a:latin typeface="Verdana"/>
              </a:rPr>
              <a:t>Камера, встроенная в оч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924360" y="4292640"/>
            <a:ext cx="2735280" cy="2063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3672000" cy="2433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1557360"/>
            <a:ext cx="1728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ru-RU" sz="1600" spc="-1" strike="noStrike">
                <a:solidFill>
                  <a:srgbClr val="0095ce"/>
                </a:solidFill>
                <a:latin typeface="Verdana"/>
              </a:rPr>
              <a:t>Фиксируются только движения головой</a:t>
            </a:r>
            <a:r>
              <a:rPr b="0" i="1" lang="en-US" sz="1600" spc="-1" strike="noStrike">
                <a:solidFill>
                  <a:srgbClr val="0095ce"/>
                </a:solidFill>
                <a:latin typeface="Verdana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1557360"/>
            <a:ext cx="489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spcBef>
                <a:spcPts val="624"/>
              </a:spcBef>
              <a:tabLst>
                <a:tab algn="l" pos="0"/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500" spc="-1" strike="noStrike">
                <a:solidFill>
                  <a:srgbClr val="0095ce"/>
                </a:solidFill>
                <a:latin typeface="Arial"/>
              </a:rPr>
              <a:t>“</a:t>
            </a:r>
            <a:r>
              <a:rPr b="1" lang="ru-RU" sz="2500" spc="-1" strike="noStrike">
                <a:solidFill>
                  <a:srgbClr val="0095ce"/>
                </a:solidFill>
                <a:latin typeface="Arial"/>
              </a:rPr>
              <a:t>Лаборатория на колесах</a:t>
            </a:r>
            <a:r>
              <a:rPr b="1" lang="en-US" sz="2500" spc="-1" strike="noStrike">
                <a:solidFill>
                  <a:srgbClr val="0095ce"/>
                </a:solidFill>
                <a:latin typeface="Arial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76"/>
              </a:spcBef>
              <a:buClr>
                <a:srgbClr val="0095ce"/>
              </a:buClr>
              <a:buFont typeface="Arial"/>
              <a:buChar char="•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900" spc="-1" strike="noStrike">
                <a:solidFill>
                  <a:srgbClr val="0095ce"/>
                </a:solidFill>
                <a:latin typeface="Arial"/>
              </a:rPr>
              <a:t>Usability</a:t>
            </a:r>
            <a:r>
              <a:rPr b="0" lang="ru-RU" sz="1900" spc="-1" strike="noStrike">
                <a:solidFill>
                  <a:srgbClr val="0095ce"/>
                </a:solidFill>
                <a:latin typeface="Arial"/>
              </a:rPr>
              <a:t>-тестирование</a:t>
            </a:r>
            <a:r>
              <a:rPr b="0" lang="en-US" sz="1900" spc="-1" strike="noStrike">
                <a:solidFill>
                  <a:srgbClr val="0095ce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6360">
              <a:spcBef>
                <a:spcPts val="425"/>
              </a:spcBef>
              <a:buClr>
                <a:srgbClr val="0095ce"/>
              </a:buClr>
              <a:buFont typeface="Arial"/>
              <a:buChar char="–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700" spc="-1" strike="noStrike">
                <a:solidFill>
                  <a:srgbClr val="0095ce"/>
                </a:solidFill>
                <a:latin typeface="Arial"/>
              </a:rPr>
              <a:t>Приборной пан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6360">
              <a:spcBef>
                <a:spcPts val="425"/>
              </a:spcBef>
              <a:buClr>
                <a:srgbClr val="0095ce"/>
              </a:buClr>
              <a:buFont typeface="Arial"/>
              <a:buChar char="–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700" spc="-1" strike="noStrike">
                <a:solidFill>
                  <a:srgbClr val="0095ce"/>
                </a:solidFill>
                <a:latin typeface="Arial"/>
              </a:rPr>
              <a:t>Навигационной систем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6360">
              <a:spcBef>
                <a:spcPts val="425"/>
              </a:spcBef>
              <a:buClr>
                <a:srgbClr val="0095ce"/>
              </a:buClr>
              <a:buFont typeface="Arial"/>
              <a:buChar char="–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700" spc="-1" strike="noStrike">
                <a:solidFill>
                  <a:srgbClr val="0095ce"/>
                </a:solidFill>
                <a:latin typeface="Arial"/>
              </a:rPr>
              <a:t>Аудио-техни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76"/>
              </a:spcBef>
              <a:buClr>
                <a:srgbClr val="0095ce"/>
              </a:buClr>
              <a:buFont typeface="Arial"/>
              <a:buChar char="•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900" spc="-1" strike="noStrike">
                <a:solidFill>
                  <a:srgbClr val="0095ce"/>
                </a:solidFill>
                <a:latin typeface="Arial"/>
              </a:rPr>
              <a:t>Интегрированная видеозапись с</a:t>
            </a:r>
            <a:r>
              <a:rPr b="0" lang="en-US" sz="1900" spc="-1" strike="noStrike">
                <a:solidFill>
                  <a:srgbClr val="0095ce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6360">
              <a:spcBef>
                <a:spcPts val="425"/>
              </a:spcBef>
              <a:buClr>
                <a:srgbClr val="0095ce"/>
              </a:buClr>
              <a:buFont typeface="Arial"/>
              <a:buChar char="–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700" spc="-1" strike="noStrike">
                <a:solidFill>
                  <a:srgbClr val="0095ce"/>
                </a:solidFill>
                <a:latin typeface="Arial"/>
              </a:rPr>
              <a:t>Скорость, повороты, КП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6360">
              <a:spcBef>
                <a:spcPts val="425"/>
              </a:spcBef>
              <a:buClr>
                <a:srgbClr val="0095ce"/>
              </a:buClr>
              <a:buFont typeface="Arial"/>
              <a:buChar char="–"/>
              <a:tabLst>
                <a:tab algn="l" pos="200484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700" spc="-1" strike="noStrike">
                <a:solidFill>
                  <a:srgbClr val="0095ce"/>
                </a:solidFill>
                <a:latin typeface="Arial"/>
              </a:rPr>
              <a:t>Местоположение</a:t>
            </a:r>
            <a:r>
              <a:rPr b="0" lang="en-US" sz="1700" spc="-1" strike="noStrike">
                <a:solidFill>
                  <a:srgbClr val="0095ce"/>
                </a:solidFill>
                <a:latin typeface="Arial"/>
              </a:rPr>
              <a:t> (GP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00037" descr=""/>
          <p:cNvPicPr/>
          <p:nvPr/>
        </p:nvPicPr>
        <p:blipFill>
          <a:blip r:embed="rId2"/>
          <a:stretch/>
        </p:blipFill>
        <p:spPr>
          <a:xfrm>
            <a:off x="615960" y="4297320"/>
            <a:ext cx="2658960" cy="2227320"/>
          </a:xfrm>
          <a:prstGeom prst="rect">
            <a:avLst/>
          </a:prstGeom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</p:pic>
      <p:sp>
        <p:nvSpPr>
          <p:cNvPr id="280" name=""/>
          <p:cNvSpPr/>
          <p:nvPr/>
        </p:nvSpPr>
        <p:spPr>
          <a:xfrm>
            <a:off x="3419640" y="6000840"/>
            <a:ext cx="122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i="1" lang="en-US" sz="1200" spc="-1" strike="noStrike">
                <a:solidFill>
                  <a:srgbClr val="0095ce"/>
                </a:solidFill>
                <a:latin typeface="Arial"/>
              </a:rPr>
              <a:t>SensoMotoric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29080" y="5445000"/>
            <a:ext cx="1165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i="1" lang="en-US" sz="1200" spc="-1" strike="noStrike">
                <a:solidFill>
                  <a:srgbClr val="0095ce"/>
                </a:solidFill>
                <a:latin typeface="Arial"/>
              </a:rPr>
              <a:t>AIST, Tsukuba,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192720" y="1844640"/>
            <a:ext cx="2482920" cy="2073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>
            <a:lum bright="-30000"/>
          </a:blip>
          <a:stretch/>
        </p:blipFill>
        <p:spPr>
          <a:xfrm>
            <a:off x="6192720" y="4076640"/>
            <a:ext cx="24764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The Observer X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68360" y="517680"/>
            <a:ext cx="2232000" cy="895320"/>
          </a:xfrm>
          <a:prstGeom prst="rect">
            <a:avLst/>
          </a:prstGeom>
          <a:ln w="0">
            <a:noFill/>
          </a:ln>
        </p:spPr>
      </p:pic>
      <p:pic>
        <p:nvPicPr>
          <p:cNvPr id="286" name="スライド1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6924960" cy="5184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41240" y="5877000"/>
            <a:ext cx="11667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i="1" lang="en-US" sz="1200" spc="-1" strike="noStrike">
                <a:solidFill>
                  <a:srgbClr val="0095ce"/>
                </a:solidFill>
                <a:latin typeface="Arial"/>
              </a:rPr>
              <a:t>AIST, Tsukuba,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5ce"/>
                </a:solidFill>
                <a:latin typeface="Tahoma"/>
              </a:rPr>
              <a:t>Спасибо за внимание!</a:t>
            </a:r>
            <a:br>
              <a:rPr sz="4000"/>
            </a:br>
            <a:r>
              <a:rPr b="0" lang="en-US" sz="4000" spc="-1" strike="noStrike">
                <a:solidFill>
                  <a:srgbClr val="0095ce"/>
                </a:solidFill>
                <a:latin typeface="Tahoma"/>
              </a:rPr>
              <a:t>Вопросы?</a:t>
            </a:r>
            <a:endParaRPr b="0" lang="en-US" sz="4000" spc="-1" strike="noStrike">
              <a:solidFill>
                <a:srgbClr val="0095ce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5157720"/>
            <a:ext cx="3743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ahoma"/>
              </a:rPr>
              <a:t>Контакты:</a:t>
            </a:r>
            <a:br>
              <a:rPr sz="2600"/>
            </a:br>
            <a:r>
              <a:rPr b="0" lang="en-US" sz="2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d.satin@usabilitylab.ru</a:t>
            </a:r>
            <a:r>
              <a:rPr b="0" lang="en-US" sz="2600" spc="-1" strike="noStrike">
                <a:solidFill>
                  <a:srgbClr val="008000"/>
                </a:solidFill>
                <a:latin typeface="Tahoma"/>
              </a:rPr>
              <a:t> </a:t>
            </a:r>
            <a:br>
              <a:rPr sz="2600"/>
            </a:br>
            <a:r>
              <a:rPr b="0" lang="en-US" sz="2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usabilitylab.ru</a:t>
            </a:r>
            <a:r>
              <a:rPr b="0" lang="en-US" sz="26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Цель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Usability-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тестирования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5ce"/>
                </a:solidFill>
                <a:latin typeface="Arial"/>
              </a:rPr>
              <a:t>Определить степень эффективности, продуктивности и удовлетворения, с которой пользователь может использовать проду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Зачем это нужно?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5ce"/>
                </a:solidFill>
                <a:latin typeface="Arial"/>
              </a:rPr>
              <a:t>Каждый потраченный на </a:t>
            </a:r>
            <a:r>
              <a:rPr b="0" lang="en-US" sz="3200" spc="-1" strike="noStrike">
                <a:solidFill>
                  <a:srgbClr val="0095ce"/>
                </a:solidFill>
                <a:latin typeface="Arial"/>
              </a:rPr>
              <a:t>usability</a:t>
            </a:r>
            <a:r>
              <a:rPr b="0" lang="ru-RU" sz="3200" spc="-1" strike="noStrike">
                <a:solidFill>
                  <a:srgbClr val="0095ce"/>
                </a:solidFill>
                <a:latin typeface="Arial"/>
              </a:rPr>
              <a:t> доллар возвращает от 10 до 100 долларов прибыли или сэкономленных сред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зитивный вклад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宋体"/>
              </a:rPr>
              <a:t>usability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5ce"/>
                </a:solidFill>
                <a:latin typeface="Arial"/>
              </a:rPr>
              <a:t>Разработка</a:t>
            </a:r>
            <a:r>
              <a:rPr b="0" lang="ru-RU" sz="3200" spc="-1" strike="noStrike">
                <a:solidFill>
                  <a:srgbClr val="0095ce"/>
                </a:solidFill>
                <a:latin typeface="Arial"/>
              </a:rPr>
              <a:t>: Снижение расходов и уменьшение вре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5ce"/>
                </a:solidFill>
                <a:latin typeface="Arial"/>
              </a:rPr>
              <a:t>Продажи</a:t>
            </a:r>
            <a:r>
              <a:rPr b="0" lang="ru-RU" sz="3200" spc="-1" strike="noStrike">
                <a:solidFill>
                  <a:srgbClr val="0095ce"/>
                </a:solidFill>
                <a:latin typeface="Arial"/>
              </a:rPr>
              <a:t>: Увеличение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5ce"/>
                </a:solidFill>
                <a:latin typeface="Arial"/>
              </a:rPr>
              <a:t>Пользователи</a:t>
            </a:r>
            <a:r>
              <a:rPr b="0" lang="ru-RU" sz="3200" spc="-1" strike="noStrike">
                <a:solidFill>
                  <a:srgbClr val="0095ce"/>
                </a:solidFill>
                <a:latin typeface="Arial"/>
              </a:rPr>
              <a:t>: Повышение эффективности, продуктивности  и удовлетвор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5ce"/>
                </a:solidFill>
                <a:latin typeface="Arial"/>
              </a:rPr>
              <a:t>Снижение затрат</a:t>
            </a:r>
            <a:r>
              <a:rPr b="0" lang="ru-RU" sz="3200" spc="-1" strike="noStrike">
                <a:solidFill>
                  <a:srgbClr val="0095ce"/>
                </a:solidFill>
                <a:latin typeface="Arial"/>
              </a:rPr>
              <a:t> на внедрение (за счет сокращения обучения) и на поддержку пользов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Влияние на разработку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5ce"/>
                </a:solidFill>
                <a:latin typeface="Arial"/>
              </a:rPr>
              <a:t>Снижение затрат на разработ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5ce"/>
                </a:solidFill>
                <a:latin typeface="Arial"/>
              </a:rPr>
              <a:t>Сокращение времени на разрабо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5ce"/>
                </a:solidFill>
                <a:latin typeface="Arial"/>
              </a:rPr>
              <a:t>Снижение расходов на поддержку проду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5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5ce"/>
                </a:solidFill>
                <a:latin typeface="Arial"/>
              </a:rPr>
              <a:t>Сокращение затрат на переделку проду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Usability Labs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 Европе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2781360"/>
            <a:ext cx="1368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C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Vien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1557360"/>
            <a:ext cx="324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University Leuv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37200" y="1509840"/>
            <a:ext cx="2808360" cy="2101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881440" cy="2354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89200" y="4189320"/>
            <a:ext cx="2351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LUT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Par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95280" y="4581360"/>
            <a:ext cx="2881440" cy="2162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348000" y="6165720"/>
            <a:ext cx="4896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ICT&amp;S Cent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University of Salz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037200" y="4102200"/>
            <a:ext cx="28306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6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Usability Lab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 Индии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5975280"/>
            <a:ext cx="151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Cordys R&amp;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1719360"/>
            <a:ext cx="3240000" cy="2435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635280" y="1719360"/>
            <a:ext cx="3168720" cy="2435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635280" y="4240080"/>
            <a:ext cx="3168720" cy="2381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24000" y="4238640"/>
            <a:ext cx="32414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9320" y="475920"/>
            <a:ext cx="57466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UsabilityLab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 Москве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290840" cy="4206960"/>
          </a:xfrm>
          <a:prstGeom prst="rect">
            <a:avLst/>
          </a:prstGeom>
          <a:ln w="9360">
            <a:solidFill>
              <a:srgbClr val="0095ce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959280" cy="4208400"/>
          </a:xfrm>
          <a:prstGeom prst="rect">
            <a:avLst/>
          </a:prstGeom>
          <a:ln w="9360">
            <a:solidFill>
              <a:srgbClr val="0095ce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6372360" y="6165720"/>
            <a:ext cx="252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95ce"/>
                </a:solidFill>
                <a:latin typeface="Verdana"/>
              </a:rPr>
              <a:t>UsabilityLab,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8:59:11Z</dcterms:created>
  <dc:creator>n.generalova</dc:creator>
  <dc:description/>
  <dc:language>en-US</dc:language>
  <cp:lastModifiedBy>Admin</cp:lastModifiedBy>
  <dcterms:modified xsi:type="dcterms:W3CDTF">2006-10-12T13:15:57Z</dcterms:modified>
  <cp:revision>152</cp:revision>
  <dc:subject/>
  <dc:title>Слайд 1</dc:title>
</cp:coreProperties>
</file>