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59D-CF99-48F3-BE0A-190F9352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312F-7335-480C-80FE-7AE4E9AA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8FB-389E-40B6-B159-4F7FD549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134-0FE7-430A-B793-1848C550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FC3-2048-4631-B2AB-8BCCC04E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E40-0834-4C09-983B-3934D351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85E4-1C30-454C-B4B5-138CCB4C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FEFD-6C0A-44C8-AA1C-4D1E9F09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849-7451-41AD-8A96-E0521EAD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7A8-32EE-4439-924A-3CAA5E2B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421-9214-4DC1-A209-3EDE1F1A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0735-8B37-413B-90AD-3AE8B2C9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C517-DB33-4F53-9DB5-B25C9A5AB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sability.ru/" TargetMode="External"/><Relationship Id="rId2" Type="http://schemas.openxmlformats.org/officeDocument/2006/relationships/hyperlink" Target="http://www.rapidsoft.ru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sability.ru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93760"/>
            <a:ext cx="798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обенности проектирования пользовательских интерфейсов корпоративных интранет-сист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191592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ослав Перев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usability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rapidsoft.ru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549360"/>
            <a:ext cx="6913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сийское отделение ACM SIGC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МИРНЫЙ ДЕНЬ ЮЗАБИЛИТИ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 ноября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1700280"/>
            <a:ext cx="7559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. Интерфейсное решение: матрица объ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052640"/>
          <a:ext cx="403848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403848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68360" y="2060640"/>
          <a:ext cx="4032360" cy="38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060640"/>
                    <a:ext cx="403236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539640" y="907920"/>
            <a:ext cx="82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76720" y="1052640"/>
          <a:ext cx="5549760" cy="23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1052640"/>
                    <a:ext cx="554976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6536-C0E4-4D07-B35A-5EB6A7725F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фейсное решение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ображение иерархических струк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2720" y="1341360"/>
            <a:ext cx="82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16635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шение «в лоб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403280" y="2205000"/>
          <a:ext cx="7416720" cy="38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205000"/>
                    <a:ext cx="741672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711A-2D4F-409B-AA2C-1A6741BC54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фейсное решение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ображение иерархических струк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2720" y="1341360"/>
            <a:ext cx="82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15922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шение «компромиссное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58920" y="1998720"/>
          <a:ext cx="7056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98720"/>
                    <a:ext cx="7056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7E26-D706-4274-83AE-9149D9782F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4920" y="2133720"/>
            <a:ext cx="8497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ослав Перев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usability.ru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916280"/>
            <a:ext cx="82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32688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обенности проект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ьзовательских интерфей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поративных интранет-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0031-FE8A-4E34-802E-A91BFBD38B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69480" y="2314080"/>
            <a:ext cx="77058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повые задачи КИС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повой ПИ КИ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 модульного подхода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целеориентирован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фейсные реш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Матрица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 Отображение иерархических струк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81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проектирован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ьзовательских интерфейсов (ПИ) корпоративных интранет-систем (КИ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4D21-C965-4ED1-86BD-393AFB5E87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7840" y="189000"/>
            <a:ext cx="8281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овы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задачи КИ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197000"/>
            <a:ext cx="770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правление организационной структурой (территориально распределённые филиалы, подразделения, должности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правление персоналом, контактные и анкетные карточки сотрудников, телефонная книга (от 100 до 10 000 и более сотрудников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Хранилище данных с системой разграничения доступа, проектные пап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орпоративные новости и система пропаганды корпоративной политики, норм, регламентов, принципов и п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истема документооборота со сложными бизнес-процессами и жизненными циклами документ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оступ к различным информационным ресурсам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оммуникационные функции, опросы/голосования, обратная связ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ехническая поддержка и другие сервис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очие бизнес-функ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82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C23F-4995-47B5-9CA9-32F8AB2B44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50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овой ПИ К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4120" y="1413000"/>
            <a:ext cx="7859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левой поход (доступ к функционалу и информационным ресурс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стенсивное, модульное развитие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2563920"/>
            <a:ext cx="7562880" cy="31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2895480"/>
          <a:ext cx="7993080" cy="27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895480"/>
                    <a:ext cx="799308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68360" y="1052640"/>
            <a:ext cx="82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0F1E-03EA-477C-A967-FAD7848CF6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507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овой ПИ К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82897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отображать на Главной странице при входе пользователя в сист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58920" y="1914480"/>
          <a:ext cx="2948040" cy="22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4480"/>
                    <a:ext cx="294804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813200" y="1916280"/>
          <a:ext cx="2998800" cy="22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13200" y="1916280"/>
                    <a:ext cx="299880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258920" y="4292640"/>
          <a:ext cx="2952720" cy="23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8920" y="4292640"/>
                    <a:ext cx="29527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791240" y="4238640"/>
          <a:ext cx="3020760" cy="243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91240" y="4238640"/>
                    <a:ext cx="3020760" cy="24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39640" y="981000"/>
            <a:ext cx="82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442-3D81-4163-8747-0139C25054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330200" y="1844640"/>
            <a:ext cx="7383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знает роли пользо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знает, как пользователь будет/должен рабо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знает, с чего начнёт работу пользователь и какая информация ему нужна в первую очер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4797360"/>
            <a:ext cx="7669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бочее место – это пульт управления космического корабля / карта фронта у генер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537840" y="333360"/>
            <a:ext cx="8281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 модульного подхода –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 целеориентированно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557360"/>
            <a:ext cx="82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5E6-4ADE-4298-B1E1-1CD74C269F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7840" y="333360"/>
            <a:ext cx="8281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 модульного подхода –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 целеориентированно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30200" y="1844640"/>
            <a:ext cx="7383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 принципа «Найди сам себе работу» к принципу «Разрешите доложить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рапортует пользова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аких участках работ какая обстановка и ситуация, выделяются наиболее критичные учас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объекты следует обработать в первую очер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важные события произошли в сис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557360"/>
            <a:ext cx="82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DBD3-1756-4CB2-9B9A-18BB8DF2BA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840" y="115560"/>
            <a:ext cx="8580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 модульного подхода – к целеориентирован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994040" y="843120"/>
          <a:ext cx="5398920" cy="57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843120"/>
                    <a:ext cx="5398920" cy="57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FE5-A664-40CB-930A-4AFB24CFD7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. Интерфейсное решение: матрица объ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907920"/>
            <a:ext cx="82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28680" y="1557360"/>
          <a:ext cx="6202440" cy="2044800"/>
        </p:xfrm>
        <a:graphic>
          <a:graphicData uri="http://schemas.openxmlformats.org/drawingml/2006/table">
            <a:tbl>
              <a:tblPr/>
              <a:tblGrid>
                <a:gridCol w="1392120"/>
                <a:gridCol w="1089000"/>
                <a:gridCol w="1239840"/>
                <a:gridCol w="1241640"/>
                <a:gridCol w="1239840"/>
              </a:tblGrid>
              <a:tr h="40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 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к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к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edd8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edd8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e0de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edd8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edd8f0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к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1166760" y="1087560"/>
            <a:ext cx="772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трица доступа сотрудников к информационным разде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28680" y="4446720"/>
          <a:ext cx="6202440" cy="2006640"/>
        </p:xfrm>
        <a:graphic>
          <a:graphicData uri="http://schemas.openxmlformats.org/drawingml/2006/table">
            <a:tbl>
              <a:tblPr/>
              <a:tblGrid>
                <a:gridCol w="1392120"/>
                <a:gridCol w="1089000"/>
                <a:gridCol w="1239840"/>
                <a:gridCol w="1241640"/>
                <a:gridCol w="1239840"/>
              </a:tblGrid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уга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уга 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уг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ент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ент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edd8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edd8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e0de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edd8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edd8f0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ент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1166760" y="3933720"/>
            <a:ext cx="76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трица распределения пакета услуг по типам кли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9BDB-38CF-4DE2-8197-EA9459F1A4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6:53:17Z</dcterms:created>
  <dc:creator>yperevalov</dc:creator>
  <dc:description/>
  <dc:language>en-US</dc:language>
  <cp:lastModifiedBy>yperevalov</cp:lastModifiedBy>
  <dcterms:modified xsi:type="dcterms:W3CDTF">2006-11-13T15:44:00Z</dcterms:modified>
  <cp:revision>28</cp:revision>
  <dc:subject/>
  <dc:title>Особенности проектирования wap-интерфейсов </dc:title>
</cp:coreProperties>
</file>