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FE336-B3A5-4D3E-864B-84C64C47A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8DB90-FB01-4B30-BFD7-6E32BE7D7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03E13-7379-4FB0-92BC-E68979329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C23BF-126C-4AB4-BC52-33F78BADE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64AB7-9DB2-4D8C-A129-2E08CD671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10C87-3F59-4306-8DFB-800E6A071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B89A5-BDB1-4B13-BE3D-1C525DC85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63457-F8F6-494A-98FC-3E04AEA2E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2F11C-D7B6-4835-A767-4272F5A61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C0236-9C47-45B8-80CA-90FC037FA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E8390-AF40-40EF-BFF3-DC79FE67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C8243-534E-414D-ABF2-F85A23F74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C2E1B-51BC-4615-9827-6A70D08C4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A6039-0282-44DD-8542-90E04E23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E5C81-CC89-440D-AF5B-122898988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F543D-FC5D-401A-A56E-B997D9F45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E1B8C-70C0-4E5C-93C6-5C6543BB4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417AA-3BAB-4280-BCD7-D1C4433CA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559D7-563C-4DE3-81EF-E72005C71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6A117-3D9E-4343-B941-84D659556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90D35-E3B5-449B-AE29-6C0548159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01EEF-777E-4F6D-9E39-78E474E7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7EBFD-8FEF-49D3-8ADD-7B0184A8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F3FAD-666D-41CE-ADB2-B5F99492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7ACA9-2193-4FA0-BC19-B75CB76E74B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cc6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ba31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cc6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62C64-C6EC-4EF5-9444-207DDC555FB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ba313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mailto:kouznetsov.artem@gmail.com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пользование персонажей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проектировании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ьзовательского интерфейс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узнецов Артё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82480"/>
            <a:ext cx="8229600" cy="112104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ерсонажи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сонажи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 реальные люд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но они представляют реальных людей в процессе проектирования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</a:t>
            </a:r>
            <a:r>
              <a:rPr b="0" i="1" lang="en-US" sz="2400" spc="-1" strike="noStrike">
                <a:solidFill>
                  <a:srgbClr val="ed2700"/>
                </a:solidFill>
                <a:latin typeface="Arial"/>
              </a:rPr>
              <a:t>гипотетические архетипы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альных пользователей. Будучи воображаемыми, они, тем не менее, определяются достаточно жестко и точ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практике мы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обнаруживаем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 процес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ледов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выдумываем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о мы действительно выдумываем их имена и личные све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1FE3D-CFD1-41B6-84E3-63BFBD4FEAC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ерсонажи 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сонажи являются наиболее значим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ъектами для моделир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ни представляю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рхетип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ользов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ни основаны на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исследованны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разцах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вед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ля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ользов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н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общаю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 себе нужды многих люд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233A4-1575-40DD-B457-AFBFDB81B65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ерсонажи 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779640" y="2349360"/>
            <a:ext cx="5113080" cy="367056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ждый набор персонажей представляет собой определённы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образцы повед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л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руппы пользователей из нашей целевой аудито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ножество персонажей показывают </a:t>
            </a:r>
            <a:r>
              <a:rPr b="0" lang="en-US" sz="2400" spc="-1" strike="noStrike">
                <a:solidFill>
                  <a:srgbClr val="ed2700"/>
                </a:solidFill>
                <a:latin typeface="Arial"/>
              </a:rPr>
              <a:t>всю область образцов повед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которую мы должны охват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16080" y="3124080"/>
            <a:ext cx="3369960" cy="13431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90320" y="1714680"/>
            <a:ext cx="54104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ы используем набор персонаж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E67D8-C1EF-4AC9-BD85-42B06AA8951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82480"/>
            <a:ext cx="8229600" cy="112104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ерсонажи (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218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t">
            <a:normAutofit/>
          </a:bodyPr>
          <a:p>
            <a:pPr marL="382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ерсонажи помогают на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предели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чт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лжен делать продукт и каково должно быть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его пове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заимодействова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с заинтересованными в реализации лицами и коллегами по рабо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ела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людей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частны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к проектирова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змеря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эффективность дизай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ак же персонажи помогают нам избежать общих пробле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изайн ради дизай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ластичны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пользова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ектирование граничных случа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D3736-3B5D-4141-9364-BE2707FD31D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82480"/>
            <a:ext cx="8229600" cy="112104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изайн ради дизай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218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t">
            <a:normAutofit/>
          </a:bodyPr>
          <a:p>
            <a:pPr marL="382680" indent="-343080" algn="just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зайн ради дизай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ектирование для себ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ыполняется, когда проектировщики или разработчики 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проецирую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бственны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тиваци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м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мозрительные моде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 продук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just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эту категорию попадает большинство "классных" продуктов: аудитория состоит из людей, крайне похожих на проектировщика, что приемлемо для узкого спектра продуктов 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вершенно неприемлем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ля большинства проч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just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раммисты 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проектирую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ля себя, создавая продукты по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делям реализа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Они понимают, как всё работает, и им с такими продуктами удобно. Тем, кто программированием не занимается, как правило, сложно с этим согласи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B4B61-1927-48D8-BD47-F23F4797030F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82480"/>
            <a:ext cx="8229600" cy="112104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ластичны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” пользоват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3628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ша цель состоит в том, чтобы удовлетворить пользователя, но термин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пользователь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является источником трудностей. Из-за своей нечеткости этот термин </a:t>
            </a:r>
            <a:r>
              <a:rPr b="0" lang="en-US" sz="2000" spc="-1" strike="noStrike">
                <a:solidFill>
                  <a:srgbClr val="ed2700"/>
                </a:solidFill>
                <a:latin typeface="Arial"/>
              </a:rPr>
              <a:t>бесполезе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как циркулярная пила бесполезна для удаления аппендикса. Нам нужен боле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очный инструмен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роектир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, кто говорит «пользователь», обычно подразумевают эдакое «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ластично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» создание, которому приходится изгибаться, растягиваться и адаптироваться к потребностям момента. Наша же цель состоит в проектировании </a:t>
            </a:r>
            <a:r>
              <a:rPr b="0" i="1" lang="en-US" sz="2000" spc="-1" strike="noStrike">
                <a:solidFill>
                  <a:srgbClr val="ed2700"/>
                </a:solidFill>
                <a:latin typeface="Arial"/>
              </a:rPr>
              <a:t>программ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торые будут изгибаться, растягиваться 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даптироваться к потребностям пользовател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1E088-22F7-40D6-B4EF-FCA777B8579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82480"/>
            <a:ext cx="8229600" cy="112104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ластичны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” пользователь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195640" y="1773360"/>
            <a:ext cx="4178160" cy="3240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771640" y="5327640"/>
            <a:ext cx="309888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Реальные пользователи </a:t>
            </a:r>
            <a:r>
              <a:rPr b="1" lang="en-US" sz="1800" spc="-1" strike="noStrike">
                <a:solidFill>
                  <a:srgbClr val="ed2700"/>
                </a:solidFill>
                <a:latin typeface="Arial"/>
                <a:ea typeface="Arial"/>
              </a:rPr>
              <a:t>не эластичны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5D3FF-7DCB-446C-98A4-732B1D52888B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ектирование граничных случае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учаи, которые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огут бы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о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происходя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ля конкретных персонаж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ужно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ыва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эти случаи для программирования, но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льзя помеща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х в фокус проектир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сонажи дают возможность 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сверя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дук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альность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Мы можем спросить: "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сколько часто Джули захочет выполнять это действие? Захочет ли вообще?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" Вооруженные этим знанием, мы можем очень осознанно назначат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оритет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функци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0A5A5-45FB-4C05-9DF1-522F90CBC68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82480"/>
            <a:ext cx="8229600" cy="112104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оектируем для одного персонаж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99920"/>
            <a:ext cx="84358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че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проектировать для одного персонаж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нимание нужд и целей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дного пользовател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омогает удовлетворит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ругих люде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имеющих такие же ц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смотрим прим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DA6E2-8DFC-4A1A-944A-BA783A496A9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578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оектируем для одного персонажа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992320" y="3049560"/>
            <a:ext cx="3181320" cy="24764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68360" y="159876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 мы получим, если будем проектировать машину, удовлетворяющую всех возможных водител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29184-47DF-451B-8285-BCBBD136C94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сонаж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ектируем для одного персонаж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арактеристики персонаж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ип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ерсонаж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м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суждение: Вопросы и Отве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DB493-6867-4C34-AEDB-4BE21A5257FD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оектируем для одного персонажа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63280" y="2560320"/>
            <a:ext cx="6921720" cy="296532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t">
            <a:normAutofit fontScale="90000"/>
          </a:bodyPr>
          <a:p>
            <a:pPr marL="344160" indent="-308520" algn="just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амочк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ь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ужна безопасная, надежная машина, просторная, с большими дверями, для перевозки детей, собак, пакетов с покупками и т. 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160" indent="-308520" algn="just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лотник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Джо нужен крепкий полноприводный пикап, достаточно большой, чтобы в него поместились лестницы, материалы, мешки с цементом и ящики с инструмента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160" indent="-308520" algn="just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ладший руководящий работни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Сет видит себя в машине спортивного типа с мощным двигателем, жесткой подвеской, откидным верхом и - места в машине должно хватать только на двои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1628640"/>
            <a:ext cx="820404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Рассмотрим запросы пользов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90680" y="2744640"/>
            <a:ext cx="1104840" cy="28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FF377-7B33-449D-B2A4-B55C781EAEF3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оектируем для одного персонажа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5311440"/>
            <a:ext cx="82296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t">
            <a:normAutofit fontScale="99000"/>
          </a:bodyPr>
          <a:p>
            <a:pPr marL="378720" indent="-3394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ашина, включающая в себя </a:t>
            </a:r>
            <a:r>
              <a:rPr b="0" lang="en-US" sz="2000" spc="-1" strike="noStrike">
                <a:solidFill>
                  <a:srgbClr val="ed2700"/>
                </a:solidFill>
                <a:latin typeface="Arial"/>
              </a:rPr>
              <a:t>все запрос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от всех пользовател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340000" y="2349360"/>
            <a:ext cx="4676760" cy="23623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25600" y="1413000"/>
            <a:ext cx="1189080" cy="30160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470160" y="4795920"/>
            <a:ext cx="27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охое 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3229E-7F09-4809-AF74-89A6F30A74D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оектируем для одного персонажа 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5300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t">
            <a:normAutofit/>
          </a:bodyPr>
          <a:p>
            <a:pPr marL="3826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полнить запросы </a:t>
            </a:r>
            <a:r>
              <a:rPr b="0" lang="en-US" sz="2000" spc="-1" strike="noStrike">
                <a:solidFill>
                  <a:srgbClr val="ed2700"/>
                </a:solidFill>
                <a:latin typeface="Arial"/>
              </a:rPr>
              <a:t>каждой категор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ользовател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юди с аналогичными целями так же будут удовлетворены одной из модел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8200" y="1413000"/>
            <a:ext cx="3529080" cy="29811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68720" y="4795920"/>
            <a:ext cx="31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лично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решен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A9243-80C9-4082-AC75-C2537C6C571D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582480"/>
            <a:ext cx="8229600" cy="112104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оектируем для одного персонажа (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362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оберт Лут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Robert Lutz), руководитель компани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rysl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говорит, что 80% участников фокус-группы возненавидели новый пикап Dodge Ram. Но после выхода на рынок машина стала бестселлером, потому что остальные 20% в нее </a:t>
            </a:r>
            <a:r>
              <a:rPr b="0" i="1" lang="en-US" sz="2000" spc="-1" strike="noStrike">
                <a:solidFill>
                  <a:srgbClr val="ed2700"/>
                </a:solidFill>
                <a:latin typeface="Arial"/>
              </a:rPr>
              <a:t>влюбились</a:t>
            </a:r>
            <a:r>
              <a:rPr b="0" i="1" lang="ru-RU" sz="2000" spc="-1" strike="noStrike">
                <a:solidFill>
                  <a:srgbClr val="ed2700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юбовь людей к продукт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пусть даже этих людей не очень много, - вот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люч к успех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Чем больше размер мишени, тем меньше вероятность попадания «в яблочко»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Если вы желаете достичь уровня удовлетворенности продуктом в 50%, это невозможно сделать, осчастливи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овин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аудитории. Единственный способ достичь цели состоит в том, чтобы выявить э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овин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и стремиться осчастливить их на 100%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 это еще не вс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F12A8-8E7C-4A0A-9F40-C275CBC40DB8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82480"/>
            <a:ext cx="8229600" cy="112104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оектируем для одного персонажа (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4247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t">
            <a:normAutofit fontScale="95000"/>
          </a:bodyPr>
          <a:p>
            <a:pPr marL="325800" indent="-325800" algn="just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ще большего успеха можно добиться, если выделить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рыночной аудитории и направить свои усилия на то, чтобы вызвать у них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опроцентный востор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первый взгляд - противоречие, однак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7640" y="5635800"/>
            <a:ext cx="159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мер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8360" y="3595680"/>
            <a:ext cx="828036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ектирование для единственного пользователя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амы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эффективный способ удовлетворить широкую аудиторию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AF0F1-FAA9-4E18-BD13-18EF240DBCC7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оектируем для одного персонажа (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8360" y="1628640"/>
            <a:ext cx="820404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Чемодан на колесиках и клейкие бумаж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909800" y="2349360"/>
            <a:ext cx="1077840" cy="28083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861080" y="3048120"/>
            <a:ext cx="2232000" cy="21096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042200" y="5259240"/>
            <a:ext cx="29116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роектировано д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юарде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798800" y="5259240"/>
            <a:ext cx="27640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.Фрай придум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 закладку в книг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593A4-1E9B-47E0-A321-E817817658D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507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оектируем для одного персонажа (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25400"/>
            <a:ext cx="84582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t">
            <a:normAutofit/>
          </a:bodyPr>
          <a:p>
            <a:pPr marL="382680" indent="-343080" algn="just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частливые пользовате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невероятно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эффективное и ценное приобрет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just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ужая фокус, можно получить </a:t>
            </a:r>
            <a:r>
              <a:rPr b="0" lang="en-US" sz="2000" spc="-1" strike="noStrike">
                <a:solidFill>
                  <a:srgbClr val="ed2700"/>
                </a:solidFill>
                <a:latin typeface="Arial"/>
              </a:rPr>
              <a:t>фанатично преданных клиентов</a:t>
            </a:r>
            <a:r>
              <a:rPr b="0" lang="ru-RU" sz="2000" spc="-1" strike="noStrike">
                <a:solidFill>
                  <a:srgbClr val="ed27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just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еданные пользователи лично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комендуют вас друзья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2DD00-8D42-4C56-9CC5-D2070FAC8FF9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507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оектируем для одного персонажа (1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25760"/>
            <a:ext cx="8407440" cy="477504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t">
            <a:normAutofit/>
          </a:bodyPr>
          <a:p>
            <a:pPr marL="3826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р компани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132000" y="2565360"/>
            <a:ext cx="2298960" cy="229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4C1D4-E79B-442A-A97A-53AFDE75A4F2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82480"/>
            <a:ext cx="8229600" cy="112104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Характеристики персонаж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t">
            <a:normAutofit/>
          </a:bodyPr>
          <a:p>
            <a:pPr marL="3826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нашем процессе проектирования нет места пользователю продукта, мы говорим о совершенно конкретном человеке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 персонаж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смотрим основные характеристики персонаж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C9624-26EC-46A9-BC08-A2D784F088A1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Характеристики персонаж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е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362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t">
            <a:normAutofit/>
          </a:bodyPr>
          <a:p>
            <a:pPr marL="382680" indent="-34308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сонаж должен быт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нкретны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сонаж должен быт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ображаемы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писание должно быт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робны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а не идеальны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DFAF3-A813-4377-A1D3-09A2737A6D82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7000"/>
            <a:ext cx="8507520" cy="169200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Введение: Методы проектирования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836280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t">
            <a:normAutofit/>
          </a:bodyPr>
          <a:p>
            <a:pPr marL="382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уществует множество методов и подходов в проектировании интерфейс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ектирование интерфейсов, ориентированное на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пользователе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 Centered Desig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ектирование интерфейсов, ориентированное на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це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ользователей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al Centered Desig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ектирование интерфейсов, основанное на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анализе деятельн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ользовател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D591E-F429-40D0-9104-96B30889D4CE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81000"/>
            <a:ext cx="8229600" cy="212400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Характеристики персонаж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е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000" y="2276640"/>
            <a:ext cx="828036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циальное по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исание рабочего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исание окру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вень подгот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удовлетворённости и ожид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8360" y="177336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рошее описание персонажа, включает в себ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67F3F-7299-4744-A789-C30C59B3538E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ерсонаж, как инструмент общ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t">
            <a:normAutofit/>
          </a:bodyPr>
          <a:p>
            <a:pPr marL="382680" indent="-343080" algn="just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бор персонажей становится системой, обладающей мощным свойством </a:t>
            </a:r>
            <a:r>
              <a:rPr b="0" lang="en-US" sz="2000" spc="-1" strike="noStrike">
                <a:solidFill>
                  <a:srgbClr val="ed2700"/>
                </a:solidFill>
                <a:latin typeface="Arial"/>
              </a:rPr>
              <a:t>объясня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аши решения в области проектиров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just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Жизненно важно, чтобы каждый в команде проектировщиков не только познакомился с набором персонажей, но чтобы вс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ерсонажи стали подобны </a:t>
            </a:r>
            <a:r>
              <a:rPr b="0" lang="en-US" sz="2000" spc="-1" strike="noStrike">
                <a:solidFill>
                  <a:srgbClr val="ed2700"/>
                </a:solidFill>
                <a:latin typeface="Arial"/>
              </a:rPr>
              <a:t>реальным люд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A4C7D-A8B7-4840-ABD2-F183F0F769F2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рсонаж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то не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2349000"/>
            <a:ext cx="84582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не-статистическим пользовате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ьными людь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гментами целевого ры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исаниями должностных обязанностей или рол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9440" y="1700280"/>
            <a:ext cx="442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сонажи иногда путают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7E4E2-A7B8-4204-9CA4-6CF3109136D8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исание должностных обязанностей или ро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8360" y="1773360"/>
            <a:ext cx="7991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исани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лжностных обязанност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пределяется теми </a:t>
            </a:r>
            <a:r>
              <a:rPr b="0" i="1" lang="ru-RU" sz="2000" spc="-1" strike="noStrike">
                <a:solidFill>
                  <a:srgbClr val="cc3300"/>
                </a:solidFill>
                <a:latin typeface="Arial"/>
              </a:rPr>
              <a:t>задача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оторые должны делать люд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сонаж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пределяется </a:t>
            </a:r>
            <a:r>
              <a:rPr b="0" i="1" lang="ru-RU" sz="2000" spc="-1" strike="noStrike">
                <a:solidFill>
                  <a:srgbClr val="cc3300"/>
                </a:solidFill>
                <a:latin typeface="Arial"/>
              </a:rPr>
              <a:t>целя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2000" spc="-1" strike="noStrike">
                <a:solidFill>
                  <a:srgbClr val="cc3300"/>
                </a:solidFill>
                <a:latin typeface="Arial"/>
              </a:rPr>
              <a:t>повед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68360" y="4005360"/>
            <a:ext cx="84963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3212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0-процентное совпадение персонажа и р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сколько персонажей на одну роль или описание должностных обязанн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сколько ролей или описаний должностных обязанностей на один персонаж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02200" y="3548160"/>
            <a:ext cx="29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Вас может бы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7640" y="5950080"/>
            <a:ext cx="159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мер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52491-259E-4CFC-BFC6-E1034DBEFC4E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исание должностных обязанностей или рол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067280" y="2636640"/>
            <a:ext cx="4752720" cy="32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едставителя телефонного центра поддержки пользователе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жон имеет опыт работы, необходимость записывать тормозит 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лис новичок, записи помогают ей разобраться в работ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539640" y="2781360"/>
            <a:ext cx="2936880" cy="2448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540360" y="1773360"/>
            <a:ext cx="607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сколько персонажей с одной рол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6AFDA-CC26-4DB9-9C6A-9A63E3EF2FAC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исание должностных обязанностей или рол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067280" y="2636640"/>
            <a:ext cx="4619520" cy="32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рограмме обработки заказов, Клара (работник маленькой компании) совмещает в себе роли заказчика товара и человека, получающего и оплачивающего сче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больших компаниях эти роли раздель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7480" y="1773360"/>
            <a:ext cx="803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ин персонаж может выполнять несколько ро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187280" y="2425680"/>
            <a:ext cx="1895760" cy="258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8B7F6-63EE-4905-A16B-97DD3850A591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бор персонажей должен отвечать одной задаче проектирова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42472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ть соблазн использовать один и тот же набор персонажей для схожих проду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дко когда это действительно работ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исание персонаж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ецифично для рассматриваемого продук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дение, относящееся к составлению документов, никогда не будет таким же, как поведение, относящееся к расчетам прибылей и потер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A93B7-9F82-4557-8A0C-EB307A11E351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ипы персонаж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435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сонажи делятся на три основных тип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ючев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ерсонаж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сонаж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торого пл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полнительн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ерсонаж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5FB92-74E0-4BC8-9B25-6E468C21C8B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ючевые персонаж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435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ждом наборе персонажей есть хотя бы один 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ключев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ерсонаж. Эта личность находится в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кус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оцесса проектир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ючевой персонаж отличает потребность в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довлетворен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недостижимом при помощи интерфейсов, спроектированных для любого другого персонаж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ключевого персонаж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г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уществует 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отдельный интерфейс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D5EA5-E5E4-4A6B-AB26-51C864D8E05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рсонажи второго пла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43588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ресы персонажей второго плана в основном бывают удовлетворены, когда удовлетворены интересы ключевых персонажей, но у них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меют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сво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ецифические запрос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всег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лучаем персонажей второго пл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ектируйте для ключевых персонажей, затем думайте об удовлетворении запросов персонажей второго пл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Покупател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служиваемые Люд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ычно относятся к персонажам второго план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7BA3C-4627-4D74-A78B-EC8D1804D13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ектирование интерфейсов, ориентированное на цели пользователей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 Directed Desig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t">
            <a:normAutofit/>
          </a:bodyPr>
          <a:p>
            <a:pPr marL="382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пределяет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причин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по которой пользователь что-то делает с с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ли система помогает пользователю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достичь его целе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такая система безусловно будет пользова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спех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ним из адептов этого направления, начиная с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9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года, является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Алан Куп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AA96E-46FF-4EC1-9E26-5FB4B083BD24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Персонаж пользователя, а не покупателя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инство персонажей должны представлят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ьзов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огда бывает полезным сделать персонаж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купател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если его цели сильно отличаются от целей пользова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 проектируе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для пользовател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затем учитываем нужды покупател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9727B-96FD-4639-82C7-034CA4C040C3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полнительные персонаж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43588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ресы дополнительных персонажей бывают удовлетворены, когда удовлетворены интересы ключевых персонажей и персонажей второго пл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и персонажи нужны для того, чтобы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иллюстрирова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едположения и пожелания заинтересованных в реализации л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и персонаж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нужн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ля проектир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Пример отрицательного персонаж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CB196-4059-43C7-9E80-9CC263234DC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ме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ры представлены в дополнительных материал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249F5-7E95-436C-AC17-233813EB673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бсуждени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просы и Отве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 можете задать Ваши вопросы в кулуар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6E207-46B4-4D57-88E1-C88A5D87196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исок литера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ан Купер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сихбольница в руках пациентов или Почему высокие технологии сводят нас с ума и как восстановить душевное равновеси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The Inmates Are Running the Asylum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36 стр., 2005 г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дательств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Символ. ISBN 5-93286-07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an Coope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Robert M. Reiman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ut Fac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2.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he Essentials of Interaction Desig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s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Wiley; 1st edition (March 17, 2003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ISBN: 076452641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an Coope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action Design Practicum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риалы тренинг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FDFAD-4CC7-4440-A692-AA6A6C3D220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544500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узнецов Артё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kouznetsov.artem@gmail.com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0F14E-AA4F-4D70-BBFB-9AC1B4BFA5F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82480"/>
            <a:ext cx="8229600" cy="112104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лан Купер (Alan Coope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t">
            <a:normAutofit/>
          </a:bodyPr>
          <a:p>
            <a:pPr marL="382680" indent="-343080" algn="just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р книг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«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out Face: The Essentials of User Interface Desig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», «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out Face 2.0: The Essentials of Interaction Desig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», «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Inmates Are Running the Asyl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just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уреат награ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just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dows Pioneer A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 Basi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just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ftware Visionary A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just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M SIGDOC Rigo A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just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а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oper Interaction Desig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консалтингова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р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которая выполняла работы по проектированию продуктов для таких компаний, как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crosoft, IBM, VISA, Sun Microsystems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P, Sony, 3М, Elemental, Ericsson, Fujitsu, Logitech, McGraw-Hill, Sagent, Varian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д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DC7D7-E6DF-45A9-A382-9A1E6D690BE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82480"/>
            <a:ext cx="8229600" cy="112104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-Directed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59720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t">
            <a:normAutofit/>
          </a:bodyPr>
          <a:p>
            <a:pPr marL="382680" indent="-343080" algn="just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чиная с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9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года Купер занимался разработкой метода, получившего название </a:t>
            </a:r>
            <a:r>
              <a:rPr b="0" lang="en-US" sz="2400" spc="-1" strike="noStrike">
                <a:solidFill>
                  <a:srgbClr val="ed2700"/>
                </a:solidFill>
                <a:latin typeface="Arial"/>
              </a:rPr>
              <a:t>целеориентирован-ного проектирова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al-Directed Desig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just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основе метода лежа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традиционные подходы к проблема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яд мощных руководящих акси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а также некоторы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разительно эффективные мыслительные инструмент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just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лее  мы рассмотрим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дин из наиболее мощных инструмент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а также примеры его применения и результаты, которых можно ожид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0D061-45F8-49B1-82F9-F5829F6720F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82480"/>
            <a:ext cx="8229600" cy="112104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ерсонаж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50752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t">
            <a:normAutofit/>
          </a:bodyPr>
          <a:p>
            <a:pPr marL="382680" indent="-343080" algn="just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нципы действ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амых мощных инструментов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сегда прост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однако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мене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таких инструментов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есьма нетривиаль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Это, несомнен-но, верно и для инструментов проектирования взаимодейств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just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ш самый эффективный инструмент исключительно прост: </a:t>
            </a:r>
            <a:r>
              <a:rPr b="0" i="1" lang="en-US" sz="2400" spc="-1" strike="noStrike">
                <a:solidFill>
                  <a:srgbClr val="ed2700"/>
                </a:solidFill>
                <a:latin typeface="Arial"/>
              </a:rPr>
              <a:t>это точное описание пользователя продукта и его целей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just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ложнос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здесь в том, чтоб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здать и применить такое точное опис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56C28-E351-4240-9DC7-A1A5E62DFFA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82480"/>
            <a:ext cx="8229600" cy="112104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ерсонажи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t">
            <a:normAutofit/>
          </a:bodyPr>
          <a:p>
            <a:pPr marL="382680" indent="-343080" algn="just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иболее очевидный подход состоит в том, чтобы найти реального пользователя и расспросить </a:t>
            </a:r>
            <a:r>
              <a:rPr b="0" i="1" lang="en-US" sz="2400" spc="-1" strike="noStrike">
                <a:solidFill>
                  <a:srgbClr val="ed2700"/>
                </a:solidFill>
                <a:latin typeface="Arial"/>
              </a:rPr>
              <a:t>его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о этот подход неэффективен по ряду причин, и основная из них такова, что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жертва определенной проблемы не наделяется автоматически силой, позволяющей эту проблему реши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just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альный пользователь - источник, конечно же, ценный, и мы уделяем большое внимание, но никогда не позволяем напрямую влиять на принимаемое 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74E3B-23F7-4103-B46A-1A383A732C4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82480"/>
            <a:ext cx="8229600" cy="112104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ерсонажи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5075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t">
            <a:normAutofit/>
          </a:bodyPr>
          <a:p>
            <a:pPr marL="382680" indent="-343080" algn="just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отоспособный подход кажется примитивным, но обладает невероятной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щью и эффективен во всех случаях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ы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нтезируе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пользователей и проектируем для </a:t>
            </a:r>
            <a:r>
              <a:rPr b="1" i="1" lang="en-US" sz="2400" spc="-1" strike="noStrike">
                <a:solidFill>
                  <a:srgbClr val="ed2700"/>
                </a:solidFill>
                <a:latin typeface="Arial"/>
              </a:rPr>
              <a:t>них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just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ы называем таких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нтезированны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ользователей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сонажам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ed2700"/>
                </a:solidFill>
                <a:latin typeface="Arial"/>
              </a:rPr>
              <a:t>persona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они представляют собой необходимую базу качественного проектирования взаимодей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50EE3-2AF9-4D5F-A3E2-10C0C5E5249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7T08:47:37Z</dcterms:created>
  <dc:creator>Кузнецов Артём</dc:creator>
  <dc:description>Определение персонажей. Описание использования персонажей в процессе проектирования Пользовательского Интерфейса. Характеристики персонажей. Примеры.</dc:description>
  <dc:language>en-US</dc:language>
  <cp:lastModifiedBy>Artem</cp:lastModifiedBy>
  <dcterms:modified xsi:type="dcterms:W3CDTF">2006-11-13T17:05:18Z</dcterms:modified>
  <cp:revision>30</cp:revision>
  <dc:subject>Доклад в Санкт-Петербурге на 14 семинаре RusCHI, 2006 г.</dc:subject>
  <dc:title>Использование персонажей, как центральное звено методики проектирования Алана Купера </dc:title>
</cp:coreProperties>
</file>