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91813" cy="7524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FC7-A8DE-49BD-90BF-3F8C2B71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55720"/>
            <a:ext cx="9623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49520"/>
            <a:ext cx="9623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E91-DE1E-4FE2-A66D-91F06D99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557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557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495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495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75E-CF22-447E-8814-42329B40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55720"/>
            <a:ext cx="3098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55720"/>
            <a:ext cx="3098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55720"/>
            <a:ext cx="3098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49520"/>
            <a:ext cx="3098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49520"/>
            <a:ext cx="3098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49520"/>
            <a:ext cx="3098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764-EA13-4E9D-AD08-51832F5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55720"/>
            <a:ext cx="96235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1EF-CCE2-4A4A-9148-F1D8B97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55720"/>
            <a:ext cx="9623520" cy="49658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148-CE7C-4C3E-A588-A2372E3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55720"/>
            <a:ext cx="4696200" cy="49658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55720"/>
            <a:ext cx="4696200" cy="49658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5FB-B0A0-41E0-8D53-930532CD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8DF-8FEE-4A81-A4D0-0D3FDB2C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1680"/>
            <a:ext cx="96235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5E0-38C0-4A9A-8A26-24A8C224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557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55720"/>
            <a:ext cx="4696200" cy="49658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495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9A3-1D10-4F2B-8900-F09A54A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55720"/>
            <a:ext cx="4696200" cy="49658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557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495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115-E233-4945-BED9-2BA0630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557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55720"/>
            <a:ext cx="469620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49520"/>
            <a:ext cx="9623520" cy="23684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896-52ED-4AD4-B990-22F36881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23520" cy="1254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55720"/>
            <a:ext cx="9623520" cy="49658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4144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4144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4144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51520"/>
            <a:ext cx="2495520" cy="5241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51520"/>
            <a:ext cx="3387600" cy="5241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51520"/>
            <a:ext cx="2495520" cy="5241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fld id="{5EF62AB5-0B2C-44BA-9E58-06BE7700616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693440" cy="5346720"/>
          </a:xfrm>
          <a:prstGeom prst="rect">
            <a:avLst/>
          </a:prstGeom>
          <a:solidFill>
            <a:srgbClr val="039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6240" y="5432400"/>
            <a:ext cx="30214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</a:rPr>
              <a:t>Денис Кортун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26360" y="6043680"/>
            <a:ext cx="2160720" cy="1320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8000" y="6426360"/>
            <a:ext cx="3095280" cy="74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2360" y="725400"/>
            <a:ext cx="9720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8800" spc="-1" strike="noStrike" baseline="-25000">
                <a:solidFill>
                  <a:srgbClr val="ffffff"/>
                </a:solidFill>
                <a:latin typeface="Arial"/>
              </a:rPr>
              <a:t>Проектировщик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8800" spc="-1" strike="noStrike" baseline="-25000">
                <a:solidFill>
                  <a:srgbClr val="ffffff"/>
                </a:solidFill>
                <a:latin typeface="Arial"/>
              </a:rPr>
              <a:t>и дизайнеры: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43200" y="5418000"/>
            <a:ext cx="3891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Платон Днепр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95120" y="2825640"/>
            <a:ext cx="7454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4800" spc="-1" strike="noStrike" baseline="-25000">
                <a:solidFill>
                  <a:srgbClr val="ffffff"/>
                </a:solidFill>
                <a:latin typeface="Arial"/>
              </a:rPr>
              <a:t>как сделать проект и не убить друг дру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82720" y="1601640"/>
            <a:ext cx="5891400" cy="535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51440" y="1981080"/>
            <a:ext cx="3314520" cy="29322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0" y="0"/>
            <a:ext cx="10693440" cy="1170000"/>
            <a:chOff x="0" y="0"/>
            <a:chExt cx="10693440" cy="1170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10693440" cy="1170000"/>
            </a:xfrm>
            <a:prstGeom prst="rect">
              <a:avLst/>
            </a:prstGeom>
            <a:solidFill>
              <a:srgbClr val="03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5640" y="162000"/>
              <a:ext cx="45226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4800" spc="-1" strike="noStrike" baseline="-25000">
                  <a:solidFill>
                    <a:srgbClr val="ffffff"/>
                  </a:solidFill>
                  <a:latin typeface="Arial"/>
                </a:rPr>
                <a:t>Как делают интерфейс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10000" y="1573200"/>
            <a:ext cx="5697360" cy="535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59120" y="1962000"/>
            <a:ext cx="3314880" cy="29322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0" y="0"/>
            <a:ext cx="10693440" cy="1170000"/>
            <a:chOff x="0" y="0"/>
            <a:chExt cx="10693440" cy="1170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10693440" cy="1170000"/>
            </a:xfrm>
            <a:prstGeom prst="rect">
              <a:avLst/>
            </a:prstGeom>
            <a:solidFill>
              <a:srgbClr val="03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080" y="162000"/>
              <a:ext cx="72003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4800" spc="-1" strike="noStrike" baseline="-25000">
                  <a:solidFill>
                    <a:srgbClr val="ffffff"/>
                  </a:solidFill>
                  <a:latin typeface="Arial"/>
                </a:rPr>
                <a:t>Как на самом деле делают интерфейс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0040" y="1482840"/>
            <a:ext cx="7979040" cy="55195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0"/>
            <a:ext cx="10693440" cy="1170000"/>
            <a:chOff x="0" y="0"/>
            <a:chExt cx="10693440" cy="1170000"/>
          </a:xfrm>
        </p:grpSpPr>
        <p:sp>
          <p:nvSpPr>
            <p:cNvPr id="60" name=""/>
            <p:cNvSpPr/>
            <p:nvPr/>
          </p:nvSpPr>
          <p:spPr>
            <a:xfrm>
              <a:off x="0" y="0"/>
              <a:ext cx="10693440" cy="1170000"/>
            </a:xfrm>
            <a:prstGeom prst="rect">
              <a:avLst/>
            </a:prstGeom>
            <a:solidFill>
              <a:srgbClr val="03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9880" y="162000"/>
              <a:ext cx="31906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4800" spc="-1" strike="noStrike" baseline="-25000">
                  <a:solidFill>
                    <a:srgbClr val="ffffff"/>
                  </a:solidFill>
                  <a:latin typeface="Arial"/>
                </a:rPr>
                <a:t>Разные подход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8920" y="2035080"/>
            <a:ext cx="2376360" cy="2376720"/>
          </a:xfrm>
          <a:prstGeom prst="ellipse">
            <a:avLst/>
          </a:prstGeom>
          <a:solidFill>
            <a:srgbClr val="00a3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11840" y="2035080"/>
            <a:ext cx="2376720" cy="2376720"/>
          </a:xfrm>
          <a:prstGeom prst="ellipse">
            <a:avLst/>
          </a:pr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31840" y="1098720"/>
            <a:ext cx="2737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6000" spc="-1" strike="noStrike" baseline="-25000">
                <a:solidFill>
                  <a:srgbClr val="00a33d"/>
                </a:solidFill>
                <a:latin typeface="Arial"/>
              </a:rPr>
              <a:t>M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74000" y="1098720"/>
            <a:ext cx="2736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6000" spc="-1" strike="noStrike" baseline="-25000">
                <a:solidFill>
                  <a:srgbClr val="00a0c6"/>
                </a:solidFill>
                <a:latin typeface="Arial"/>
              </a:rPr>
              <a:t>Ven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280" y="4930920"/>
            <a:ext cx="453708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400" spc="-1" strike="noStrike" baseline="-25000">
                <a:solidFill>
                  <a:srgbClr val="00a33d"/>
                </a:solidFill>
                <a:latin typeface="Arial"/>
              </a:rPr>
              <a:t>Лог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400" spc="-1" strike="noStrike" baseline="-25000">
                <a:solidFill>
                  <a:srgbClr val="00a33d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400" spc="-1" strike="noStrike" baseline="-25000">
                <a:solidFill>
                  <a:srgbClr val="00a33d"/>
                </a:solidFill>
                <a:latin typeface="Arial"/>
              </a:rPr>
              <a:t>Рацион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400" spc="-1" strike="noStrike" baseline="-25000">
                <a:solidFill>
                  <a:srgbClr val="00a33d"/>
                </a:solidFill>
                <a:latin typeface="Arial"/>
              </a:rPr>
              <a:t>Удоб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05640" y="4930920"/>
            <a:ext cx="453708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400" spc="-1" strike="noStrike" baseline="-25000">
                <a:solidFill>
                  <a:srgbClr val="00a0c6"/>
                </a:solidFill>
                <a:latin typeface="Arial"/>
              </a:rPr>
              <a:t>Эмо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400" spc="-1" strike="noStrike" baseline="-25000">
                <a:solidFill>
                  <a:srgbClr val="00a0c6"/>
                </a:solidFill>
                <a:latin typeface="Arial"/>
              </a:rPr>
              <a:t>На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400" spc="-1" strike="noStrike" baseline="-25000">
                <a:solidFill>
                  <a:srgbClr val="00a0c6"/>
                </a:solidFill>
                <a:latin typeface="Arial"/>
              </a:rPr>
              <a:t>Интуи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4400" spc="-1" strike="noStrike" baseline="-25000">
                <a:solidFill>
                  <a:srgbClr val="00a0c6"/>
                </a:solidFill>
                <a:latin typeface="Arial"/>
              </a:rPr>
              <a:t>Гарм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693440" cy="1170000"/>
            <a:chOff x="0" y="0"/>
            <a:chExt cx="10693440" cy="117000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693440" cy="1170000"/>
            </a:xfrm>
            <a:prstGeom prst="rect">
              <a:avLst/>
            </a:prstGeom>
            <a:solidFill>
              <a:srgbClr val="03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9320" y="162000"/>
              <a:ext cx="4709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4800" spc="-1" strike="noStrike" baseline="-25000">
                  <a:solidFill>
                    <a:srgbClr val="ffffff"/>
                  </a:solidFill>
                  <a:latin typeface="Arial"/>
                </a:rPr>
                <a:t>Межгалактические войн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275440" y="1386000"/>
            <a:ext cx="0" cy="568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7720" y="1674720"/>
            <a:ext cx="6858000" cy="50958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0" y="0"/>
            <a:ext cx="10693440" cy="1170000"/>
            <a:chOff x="0" y="0"/>
            <a:chExt cx="10693440" cy="117000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693440" cy="1170000"/>
            </a:xfrm>
            <a:prstGeom prst="rect">
              <a:avLst/>
            </a:prstGeom>
            <a:solidFill>
              <a:srgbClr val="03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4840" y="162000"/>
              <a:ext cx="68374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4800" spc="-1" strike="noStrike" baseline="-25000">
                  <a:solidFill>
                    <a:srgbClr val="ffffff"/>
                  </a:solidFill>
                  <a:latin typeface="Arial"/>
                </a:rPr>
                <a:t>Проектировщики подкинули пробле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14360" y="3203640"/>
            <a:ext cx="7993080" cy="18540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0" y="0"/>
            <a:ext cx="10693440" cy="1170000"/>
            <a:chOff x="0" y="0"/>
            <a:chExt cx="10693440" cy="117000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10693440" cy="1170000"/>
            </a:xfrm>
            <a:prstGeom prst="rect">
              <a:avLst/>
            </a:prstGeom>
            <a:solidFill>
              <a:srgbClr val="03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2480" y="162000"/>
              <a:ext cx="5810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4800" spc="-1" strike="noStrike" baseline="-25000">
                  <a:solidFill>
                    <a:srgbClr val="ffffff"/>
                  </a:solidFill>
                  <a:latin typeface="Arial"/>
                </a:rPr>
                <a:t>Дизайнеры подкинули пробле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6360" y="2598840"/>
            <a:ext cx="9912240" cy="267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49600" y="1601640"/>
            <a:ext cx="16347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6000" spc="-1" strike="noStrike" baseline="-25000">
                <a:solidFill>
                  <a:srgbClr val="00a0c6"/>
                </a:solidFill>
                <a:latin typeface="Arial"/>
              </a:rPr>
              <a:t>Клие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5520" y="5275440"/>
            <a:ext cx="14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400" spc="-1" strike="noStrike" baseline="-25000">
                <a:solidFill>
                  <a:srgbClr val="00a0c6"/>
                </a:solidFill>
                <a:latin typeface="Arial"/>
              </a:rPr>
              <a:t>Проектиров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38120" y="5275440"/>
            <a:ext cx="97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400" spc="-1" strike="noStrike" baseline="-25000">
                <a:solidFill>
                  <a:srgbClr val="00a0c6"/>
                </a:solidFill>
                <a:latin typeface="Arial"/>
              </a:rPr>
              <a:t>Дизай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93080" y="1601640"/>
            <a:ext cx="16347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6000" spc="-1" strike="noStrike" baseline="-25000">
                <a:solidFill>
                  <a:srgbClr val="00a33d"/>
                </a:solidFill>
                <a:latin typeface="Arial"/>
              </a:rPr>
              <a:t>Клие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33560" y="5346720"/>
            <a:ext cx="1358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200" spc="-1" strike="noStrike" baseline="-25000">
                <a:solidFill>
                  <a:srgbClr val="00a33d"/>
                </a:solidFill>
                <a:latin typeface="Arial"/>
              </a:rPr>
              <a:t>Проектировщ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373320" y="5346720"/>
            <a:ext cx="904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200" spc="-1" strike="noStrike" baseline="-25000">
                <a:solidFill>
                  <a:srgbClr val="00a33d"/>
                </a:solidFill>
                <a:latin typeface="Arial"/>
              </a:rPr>
              <a:t>Дизайн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10693440" cy="1170000"/>
            <a:chOff x="0" y="0"/>
            <a:chExt cx="10693440" cy="1170000"/>
          </a:xfrm>
        </p:grpSpPr>
        <p:sp>
          <p:nvSpPr>
            <p:cNvPr id="88" name=""/>
            <p:cNvSpPr/>
            <p:nvPr/>
          </p:nvSpPr>
          <p:spPr>
            <a:xfrm>
              <a:off x="0" y="0"/>
              <a:ext cx="10693440" cy="1170000"/>
            </a:xfrm>
            <a:prstGeom prst="rect">
              <a:avLst/>
            </a:prstGeom>
            <a:solidFill>
              <a:srgbClr val="03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0080" y="162000"/>
              <a:ext cx="5366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4800" spc="-1" strike="noStrike" baseline="-25000">
                  <a:solidFill>
                    <a:srgbClr val="ffffff"/>
                  </a:solidFill>
                  <a:latin typeface="Arial"/>
                </a:rPr>
                <a:t>Клиенты подкинули пробле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464000" y="1601640"/>
            <a:ext cx="16347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6000" spc="-1" strike="noStrike" baseline="-25000">
                <a:solidFill>
                  <a:srgbClr val="808080"/>
                </a:solidFill>
                <a:latin typeface="Arial"/>
              </a:rPr>
              <a:t>Клие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7200" y="5275440"/>
            <a:ext cx="14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400" spc="-1" strike="noStrike" baseline="-25000">
                <a:solidFill>
                  <a:srgbClr val="808080"/>
                </a:solidFill>
                <a:latin typeface="Arial"/>
              </a:rPr>
              <a:t>Проектиров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11560" y="5275440"/>
            <a:ext cx="97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400" spc="-1" strike="noStrike" baseline="-25000">
                <a:solidFill>
                  <a:srgbClr val="808080"/>
                </a:solidFill>
                <a:latin typeface="Arial"/>
              </a:rPr>
              <a:t>Дизай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46360" y="1386000"/>
            <a:ext cx="0" cy="568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75440" y="1386000"/>
            <a:ext cx="0" cy="568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98720" y="3152880"/>
            <a:ext cx="6443640" cy="1762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0" y="0"/>
            <a:ext cx="10693440" cy="1170000"/>
            <a:chOff x="0" y="0"/>
            <a:chExt cx="10693440" cy="1170000"/>
          </a:xfrm>
        </p:grpSpPr>
        <p:sp>
          <p:nvSpPr>
            <p:cNvPr id="97" name=""/>
            <p:cNvSpPr/>
            <p:nvPr/>
          </p:nvSpPr>
          <p:spPr>
            <a:xfrm>
              <a:off x="0" y="0"/>
              <a:ext cx="10693440" cy="1170000"/>
            </a:xfrm>
            <a:prstGeom prst="rect">
              <a:avLst/>
            </a:prstGeom>
            <a:solidFill>
              <a:srgbClr val="03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920" y="162000"/>
              <a:ext cx="16239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41480"/>
                  <a:tab algn="l" pos="2082960"/>
                  <a:tab algn="l" pos="3124080"/>
                  <a:tab algn="l" pos="4165560"/>
                  <a:tab algn="l" pos="5207040"/>
                  <a:tab algn="l" pos="6248520"/>
                  <a:tab algn="l" pos="7289640"/>
                  <a:tab algn="l" pos="8331120"/>
                  <a:tab algn="l" pos="9372600"/>
                  <a:tab algn="l" pos="10414080"/>
                </a:tabLst>
              </a:pPr>
              <a:r>
                <a:rPr b="1" lang="en-US" sz="4800" spc="-1" strike="noStrike" baseline="-25000">
                  <a:solidFill>
                    <a:srgbClr val="ffffff"/>
                  </a:solidFill>
                  <a:latin typeface="Arial"/>
                </a:rPr>
                <a:t>Счастье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33:23Z</dcterms:created>
  <dc:creator>copylove</dc:creator>
  <dc:description/>
  <dc:language>en-US</dc:language>
  <cp:lastModifiedBy>copylove</cp:lastModifiedBy>
  <dcterms:modified xsi:type="dcterms:W3CDTF">2006-11-13T19:40:01Z</dcterms:modified>
  <cp:revision>13</cp:revision>
  <dc:subject/>
  <dc:title>Слайд 1</dc:title>
</cp:coreProperties>
</file>