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BA19-F466-4F04-A25C-F32A771301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веденческие = нав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тиль жизни = навыки, привычки, личностные характерис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очнение с помощью ю. тестирования, структурированного интервью, анкетиров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зделяем опытных пользов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ва профессионала. Выявлено на основе кластерного анали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писать источник фотографий и и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ля определения весовых коэффици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обавить про инстру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 одно требование для иных персонажей не способно удовлетворить требования ключев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нтерфейс должен быть понятен Анатолию после короткого периода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 Аркадия есть свои потребности поддерживающие процесс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Максимально простой пользовательский интерфейс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Добавить уроки торговли встроенные прямо в программу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Максимально простой пользовательский интерфейс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Добавить уроки торговли встроенные прямо в программу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второе коммуникационная фун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раткое описание сути программы. Система принятия решений. Упомянуть про упрощение персонаж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бор, структурирование, анализ, синте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ЦА создаются на основе исследований или эмпир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помянуть о двух типах опыт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0276-0B52-4BA5-A85E-D956CA637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77F7-A19D-4471-B09E-F27B6796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3920-7767-4E4E-A2AA-A0DE078CE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877D-E288-4632-B9F3-30F198C9E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B0AF-5386-4B7B-949A-D210F40A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139B-C2E1-450B-82F1-C6AE7ADF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AFBE-4873-444F-BFE0-8C6E3757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51B6-D86E-4F86-BB48-38426B90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FC78-DC0E-402D-B08F-8D51BACA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F23C-8C97-403B-9446-F7DD6374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CF88-0609-43AC-A8E3-6A6454EA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F44E-05C0-4638-8EE2-93027A81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67B9-AAA8-40CC-9A7C-6B84E8534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4956120"/>
          </a:xfrm>
          <a:prstGeom prst="rect">
            <a:avLst/>
          </a:prstGeom>
          <a:solidFill>
            <a:srgbClr val="cc66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69960" y="1343160"/>
            <a:ext cx="77724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интез персонажей и их использова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365880" y="4991040"/>
            <a:ext cx="2552760" cy="1559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4120" y="2781360"/>
            <a:ext cx="77724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нструмент, а не фи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6240" y="5324400"/>
            <a:ext cx="495612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лексей Копылов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непровский Плат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944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текст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дивидуально-личностные характерис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выки и привы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7468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Идентифицируем набор персонажей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Группы параметров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ля интерпре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27468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Идентифицируем набор персонажей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Анкет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96920" y="1895400"/>
            <a:ext cx="7096320" cy="4807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909880" y="2865600"/>
            <a:ext cx="57675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58920" y="1979640"/>
            <a:ext cx="8407080" cy="45496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" y="27468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Идентифицируем набор персонажей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Кластерный 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3804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Идентифицируем персонажи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Уточненные персона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944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вич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Пипсовик» (бизнес-персонаж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нев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пизод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подава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27468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Описываем персонажи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Разделы опис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2074680"/>
            <a:ext cx="8229600" cy="39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я и фотограф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ек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мографические да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гулярные и эпизодические сцена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нь из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бования к интерфей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27468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Описываем персонажи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Придумываем имя и находим фо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64960" y="2031840"/>
            <a:ext cx="2627640" cy="3194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846520" y="2144520"/>
            <a:ext cx="585468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1440" indent="-27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тол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ичо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о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0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ование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шее военно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нат, имеет двух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о работы: продавец-консультант в магазине электрон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ся на курсах биржевой торгов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7468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Описываем персонажи 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Определяем ц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2036880"/>
            <a:ext cx="82296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Бизнес-це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делать торговлю основным источником доход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Личные це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учиться пользоваться компьютер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зобраться в океане информации – понять, что очень важно сейчас, что менее важно, а без чего можно обойтись на первом этап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27468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Описываем персонажи 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Описываем сцена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2074680"/>
            <a:ext cx="8229600" cy="39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Регуляр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бщение внутри форума трейдер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Чтение финансовых новостей и стат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ыполнение учебных зад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Нерегуляр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становка и настройка програм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оздание рабочего пространства внутри програм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27468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Описываем персонажи </a:t>
            </a:r>
            <a:br>
              <a:rPr sz="34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Фиксируем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22200" y="2031840"/>
          <a:ext cx="8491680" cy="4542120"/>
        </p:xfrm>
        <a:graphic>
          <a:graphicData uri="http://schemas.openxmlformats.org/drawingml/2006/table">
            <a:tbl>
              <a:tblPr/>
              <a:tblGrid>
                <a:gridCol w="3335400"/>
                <a:gridCol w="1281240"/>
                <a:gridCol w="920520"/>
                <a:gridCol w="1136880"/>
                <a:gridCol w="893520"/>
                <a:gridCol w="924120"/>
              </a:tblGrid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б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тол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ключевой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вг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оминать все настройки программ между сессиями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+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+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ьзовательский интерфейс должен быть самодокументированн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+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ыстрое выполнения рутинных операций с графическими элемент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+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+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ыстрое обучение основным навыкам работы (20 часо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+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544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Выявляем ключевых персонажей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Динамика количества торгующ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0120" y="2095560"/>
            <a:ext cx="7815240" cy="432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ерсонаж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12800" y="1424160"/>
            <a:ext cx="7629480" cy="4971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28760" y="6132600"/>
            <a:ext cx="828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рсонажи – архетипы пользователей, созданные на основе достоверных наблюдений и описанные с должной тщательност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32544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Выявляем ключевых персонажей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Динамика количества торгующ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22200" y="2031840"/>
          <a:ext cx="8491680" cy="2489400"/>
        </p:xfrm>
        <a:graphic>
          <a:graphicData uri="http://schemas.openxmlformats.org/drawingml/2006/table">
            <a:tbl>
              <a:tblPr/>
              <a:tblGrid>
                <a:gridCol w="3335400"/>
                <a:gridCol w="1281240"/>
                <a:gridCol w="920520"/>
                <a:gridCol w="1136880"/>
                <a:gridCol w="893520"/>
                <a:gridCol w="924120"/>
              </a:tblGrid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б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тол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ключевой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вг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ьзовательский интерфейс должен быть самодокументированн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+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ыстрое обучение основным навыкам работы (20 часо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+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27468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Выявляем ключевых персонажей</a:t>
            </a:r>
            <a:br>
              <a:rPr sz="40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 Пои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2200" y="2031840"/>
          <a:ext cx="8491680" cy="4542120"/>
        </p:xfrm>
        <a:graphic>
          <a:graphicData uri="http://schemas.openxmlformats.org/drawingml/2006/table">
            <a:tbl>
              <a:tblPr/>
              <a:tblGrid>
                <a:gridCol w="3335400"/>
                <a:gridCol w="1281240"/>
                <a:gridCol w="920520"/>
                <a:gridCol w="1136880"/>
                <a:gridCol w="893520"/>
                <a:gridCol w="924120"/>
              </a:tblGrid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б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тол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ключевой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вг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оминать все настройки программ между сессиями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+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+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ьзовательский интерфейс должен быть самодокументированн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+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ыстрое выполнения рутинных операций с графическими элемент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+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+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ыстрое обучение основным навыкам работы (20 часо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+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32544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Выявляем ключевых персонажей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Ключевые персона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06720" y="5333040"/>
            <a:ext cx="2017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толий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вич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23000" y="5339520"/>
            <a:ext cx="204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ркадий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подав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71560" y="2144880"/>
            <a:ext cx="3076560" cy="3740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584600" y="2152800"/>
            <a:ext cx="30304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27468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Алгоритм создания персонаж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206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учить имеющиеся материалы и провести необходимые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нтифицировать персона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точ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27468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Использование персонажей (1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211400" y="1944720"/>
            <a:ext cx="3233520" cy="47210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334120" y="2033640"/>
            <a:ext cx="1805040" cy="677880"/>
          </a:xfrm>
          <a:prstGeom prst="borderCallout2">
            <a:avLst>
              <a:gd name="adj1" fmla="val 18750"/>
              <a:gd name="adj2" fmla="val -8333"/>
              <a:gd name="adj3" fmla="val 16861"/>
              <a:gd name="adj4" fmla="val -61916"/>
              <a:gd name="adj5" fmla="val 41217"/>
              <a:gd name="adj6" fmla="val -117675"/>
            </a:avLst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Все настройки запоминаются автоматиче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293920" y="2378160"/>
            <a:ext cx="3092400" cy="108576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3287880"/>
            <a:ext cx="1805040" cy="512640"/>
          </a:xfrm>
          <a:prstGeom prst="borderCallout2">
            <a:avLst>
              <a:gd name="adj1" fmla="val 18750"/>
              <a:gd name="adj2" fmla="val -8333"/>
              <a:gd name="adj3" fmla="val 22291"/>
              <a:gd name="adj4" fmla="val -61916"/>
              <a:gd name="adj5" fmla="val 57277"/>
              <a:gd name="adj6" fmla="val -117675"/>
            </a:avLst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одсказки для нович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833640" y="3506760"/>
            <a:ext cx="1516320" cy="27000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34120" y="4154400"/>
            <a:ext cx="1805040" cy="513000"/>
          </a:xfrm>
          <a:prstGeom prst="borderCallout2">
            <a:avLst>
              <a:gd name="adj1" fmla="val 18750"/>
              <a:gd name="adj2" fmla="val -8333"/>
              <a:gd name="adj3" fmla="val 22291"/>
              <a:gd name="adj4" fmla="val -61916"/>
              <a:gd name="adj5" fmla="val 123217"/>
              <a:gd name="adj6" fmla="val -117675"/>
            </a:avLst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Готовые конфигу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397320" y="4419360"/>
            <a:ext cx="1993680" cy="54756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27468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Использование персонажей (2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662120" y="1940040"/>
            <a:ext cx="6208560" cy="465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2389320" y="3446640"/>
            <a:ext cx="1804680" cy="677520"/>
          </a:xfrm>
          <a:prstGeom prst="borderCallout2">
            <a:avLst>
              <a:gd name="adj1" fmla="val 18750"/>
              <a:gd name="adj2" fmla="val -8333"/>
              <a:gd name="adj3" fmla="val 16861"/>
              <a:gd name="adj4" fmla="val -6773"/>
              <a:gd name="adj5" fmla="val -147074"/>
              <a:gd name="adj6" fmla="val -9236"/>
            </a:avLst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чевидный способ добавления графика котиров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4200" y="3946680"/>
            <a:ext cx="2043000" cy="660240"/>
          </a:xfrm>
          <a:prstGeom prst="borderCallout2">
            <a:avLst>
              <a:gd name="adj1" fmla="val 18750"/>
              <a:gd name="adj2" fmla="val -8333"/>
              <a:gd name="adj3" fmla="val 17305"/>
              <a:gd name="adj4" fmla="val 111810"/>
              <a:gd name="adj5" fmla="val -58893"/>
              <a:gd name="adj6" fmla="val 135120"/>
            </a:avLst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Результат изменения параметров отображается нагляд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16560" y="5481720"/>
            <a:ext cx="1652400" cy="799920"/>
          </a:xfrm>
          <a:prstGeom prst="borderCallout2">
            <a:avLst>
              <a:gd name="adj1" fmla="val 18750"/>
              <a:gd name="adj2" fmla="val -8333"/>
              <a:gd name="adj3" fmla="val 14287"/>
              <a:gd name="adj4" fmla="val -9125"/>
              <a:gd name="adj5" fmla="val 990"/>
              <a:gd name="adj6" fmla="val -96254"/>
            </a:avLst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Экран «нарезан» на области, которыми легко управля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71880" y="2452680"/>
            <a:ext cx="1077840" cy="104760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6297480" y="4313160"/>
            <a:ext cx="370080" cy="28584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3985920" y="5214960"/>
            <a:ext cx="1436760" cy="66024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4956120"/>
          </a:xfrm>
          <a:prstGeom prst="rect">
            <a:avLst/>
          </a:prstGeom>
          <a:solidFill>
            <a:srgbClr val="cc66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71480" y="1114560"/>
            <a:ext cx="777240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Спасибо за вним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365880" y="4991040"/>
            <a:ext cx="2552760" cy="15591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46240" y="5324400"/>
            <a:ext cx="59166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ОО «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ЮАйДизайн Гру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сква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Борова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лица, дом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строен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10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+7 (499) 763-411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+7 (926) 532-0274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uidesign.r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mail@uidesign.r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89320" y="2193480"/>
            <a:ext cx="464832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нятие ре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ышение качества выполнения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Цели создания персонаж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5960" y="2120760"/>
            <a:ext cx="3602160" cy="405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истема технического анализа рынка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r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36640" y="2013120"/>
            <a:ext cx="608004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7468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Алгоритм создания персонаж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06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учить имеющиеся материалы и провести необходимые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нтифицировать персона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исать персона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483080" y="1967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доставл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зультаты маркетингового ан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ум сайта комп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ектные документы от разработч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6760" y="1967040"/>
            <a:ext cx="419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вью с пользовате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кус-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кетирование обучающиеся и трейде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27468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зучаем материалы и добываем новы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27468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Алгоритм создания персонаж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206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учить имеющиеся материалы и провести необходимые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дентифицировать персона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исать персона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7468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Идентифицируем набор персонажей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Целевые группы и персона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_s1028"/>
          <p:cNvSpPr/>
          <p:nvPr/>
        </p:nvSpPr>
        <p:spPr>
          <a:xfrm>
            <a:off x="2732040" y="2487600"/>
            <a:ext cx="2195640" cy="2195640"/>
          </a:xfrm>
          <a:prstGeom prst="ellipse">
            <a:avLst/>
          </a:prstGeom>
          <a:solidFill>
            <a:srgbClr val="333399">
              <a:alpha val="50000"/>
            </a:srgbClr>
          </a:solidFill>
          <a:ln w="4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_s1032"/>
          <p:cNvSpPr/>
          <p:nvPr/>
        </p:nvSpPr>
        <p:spPr>
          <a:xfrm>
            <a:off x="2228760" y="3811680"/>
            <a:ext cx="2195640" cy="2195280"/>
          </a:xfrm>
          <a:prstGeom prst="ellipse">
            <a:avLst/>
          </a:prstGeom>
          <a:solidFill>
            <a:srgbClr val="99cc00">
              <a:alpha val="50000"/>
            </a:srgbClr>
          </a:solidFill>
          <a:ln w="4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_s1030"/>
          <p:cNvSpPr/>
          <p:nvPr/>
        </p:nvSpPr>
        <p:spPr>
          <a:xfrm>
            <a:off x="4479840" y="2637000"/>
            <a:ext cx="2195640" cy="2195280"/>
          </a:xfrm>
          <a:prstGeom prst="ellipse">
            <a:avLst/>
          </a:prstGeom>
          <a:solidFill>
            <a:srgbClr val="009999">
              <a:alpha val="50000"/>
            </a:srgbClr>
          </a:solidFill>
          <a:ln w="4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_s1030"/>
          <p:cNvSpPr/>
          <p:nvPr/>
        </p:nvSpPr>
        <p:spPr>
          <a:xfrm>
            <a:off x="4213080" y="4021200"/>
            <a:ext cx="2195640" cy="2195280"/>
          </a:xfrm>
          <a:prstGeom prst="ellipse">
            <a:avLst/>
          </a:prstGeom>
          <a:solidFill>
            <a:srgbClr val="ff9900">
              <a:alpha val="50000"/>
            </a:srgbClr>
          </a:solidFill>
          <a:ln w="4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79760" y="3441600"/>
            <a:ext cx="7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ЦГ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94440" y="3568680"/>
            <a:ext cx="72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ЦГ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940280" y="4952880"/>
            <a:ext cx="7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ЦГ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46240" y="4775040"/>
            <a:ext cx="7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ЦГ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041800" y="2941560"/>
            <a:ext cx="457200" cy="466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05440" y="3449520"/>
            <a:ext cx="457200" cy="466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181480" y="4199040"/>
            <a:ext cx="457200" cy="466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2565360" y="4579920"/>
            <a:ext cx="457200" cy="466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3441600" y="2840040"/>
            <a:ext cx="457200" cy="466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4686480" y="5151600"/>
            <a:ext cx="4572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3804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Идентифицируем набор персонажей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Целевые группы (первое приближ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944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вич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ы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подава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10:48:29Z</dcterms:created>
  <dc:creator>Платон</dc:creator>
  <dc:description/>
  <dc:language>en-US</dc:language>
  <cp:lastModifiedBy>Admin</cp:lastModifiedBy>
  <dcterms:modified xsi:type="dcterms:W3CDTF">2006-10-12T13:16:59Z</dcterms:modified>
  <cp:revision>179</cp:revision>
  <dc:subject/>
  <dc:title>Проектирование пользовательского интерфейса сайта www.beeline.ru</dc:title>
</cp:coreProperties>
</file>