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5A5-7F46-4333-8108-9F7E579A1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контекстных ди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вайте вопросы только тогда, когда ответы на них действительно нужны, и самостоятельно получить ответ система не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пользователи не воспринимают звонки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S 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комых ном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онтекста, в качестве отправителя можно подставлять номер знакомого абон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Идеальный вариант: использовать аппарат пользовате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ывается не только информационная составляющая интерфейса, но и взаимодействие пользователя с устройств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растает нагрузка на стадии рекрутинга респонд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птимальный вариант: использовать "карточки" с сообщени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ывается только информационная составляющая. Оценить взаимодействие с устройством невозмо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нижение затрат на проведение тест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: для провайдера услуг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S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фик дешевле голосового тра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степень доступности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требуется дополнительной настройки (как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P, MMS et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степень распростран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ть в любом мобильном, а мобильный есть почти у кажд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необходимости мгновенной реакции пользователя (в отличие от голосовых интерфейс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стить фразы, ошибка – денги, итп, ошибки в н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бора латинских символов, совпадающих по начертанию с русскими (А-А, X-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 от необходимости переключаться между языками при вводе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символов, находящихся на "одинарном" нажатии кнопки (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опулярных форма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. ном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использовать символ «+» при в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все пользователи знают, как вводится «+» на их телеф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ть более важна, чем стиль напис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 приветствия, прощания, благодарности можно опускать без потери смы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843-80C5-43D3-AE67-2C69F2C1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C70-6D82-47B6-BB15-E6BD2B54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979-527B-433F-A0F0-6A52ACE7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6A7-B914-422B-A408-A6149D0F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2B3-6C22-4800-BE7D-5C3065D4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6D8-3773-476E-9364-59792C15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DEE-14D6-4242-9528-43BF3BDA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4AB-98AB-447B-892E-21F8FFAE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C49-A824-40C3-B972-715EE28A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8ED-DEAA-4F09-B492-1705111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393-9221-442D-85A5-3F67B06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1A3-D21B-41D5-A6BF-FC1F58E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F1A-5151-44BD-86A4-227BE2C43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956120"/>
          </a:xfrm>
          <a:prstGeom prst="rect">
            <a:avLst/>
          </a:prstGeom>
          <a:solidFill>
            <a:srgbClr val="cc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480" y="111420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MS</a:t>
            </a:r>
            <a:br>
              <a:rPr sz="72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средство взаимодействия пользователя и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65880" y="4991040"/>
            <a:ext cx="2552760" cy="155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6240" y="5324400"/>
            <a:ext cx="5121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кс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ленюк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ий проектиров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шения</a:t>
            </a:r>
            <a:br>
              <a:rPr sz="48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ображение данных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5240" y="1911240"/>
            <a:ext cx="606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ем вопросы только когда нам важны 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454800" y="1984320"/>
          <a:ext cx="2442960" cy="39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4800" y="1984320"/>
                    <a:ext cx="2442960" cy="39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Решения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ображение данных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4880" y="1911240"/>
            <a:ext cx="592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язнь незнакомых номеров: как с ней боро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35720" y="1911240"/>
          <a:ext cx="2533680" cy="40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5720" y="1911240"/>
                    <a:ext cx="2533680" cy="40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Юзабилити-тестир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5596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ппаратное тестирование: использовать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31760" y="3403440"/>
          <a:ext cx="17640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3403440"/>
                    <a:ext cx="17640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Content Placeholder 2"/>
          <p:cNvSpPr/>
          <p:nvPr/>
        </p:nvSpPr>
        <p:spPr>
          <a:xfrm>
            <a:off x="4716360" y="2065320"/>
            <a:ext cx="426240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точное тестирование: использовать бумажные карточки с сообщ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45000" y="3400560"/>
          <a:ext cx="3987720" cy="21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3400560"/>
                    <a:ext cx="3987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956120"/>
          </a:xfrm>
          <a:prstGeom prst="rect">
            <a:avLst/>
          </a:prstGeom>
          <a:solidFill>
            <a:srgbClr val="cc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1480" y="1114560"/>
            <a:ext cx="7772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65880" y="4991040"/>
            <a:ext cx="2552760" cy="1559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6240" y="5324400"/>
            <a:ext cx="5916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АйДизайн Гру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оров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ца, до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тро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10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7 (499) 763-41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7 (926) 532-027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uidesign.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ail@uidesign.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S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востребова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165240" y="1911240"/>
            <a:ext cx="88135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вы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степень доступности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степень распростран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необходимости мгновенной реакции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граничения ср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165240" y="1911240"/>
            <a:ext cx="568944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текста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, 69 р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усского языка вдвое сокращает максимальную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 аппа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 к прочитан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просмотра текс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ые размеры экр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97760" y="1984320"/>
          <a:ext cx="2741400" cy="37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7760" y="1984320"/>
                    <a:ext cx="274140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сокая стоимость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4880" y="1911240"/>
            <a:ext cx="57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ит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а ввода стоит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435720" y="1911240"/>
          <a:ext cx="2533680" cy="40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5720" y="1911240"/>
                    <a:ext cx="2533680" cy="40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9600" y="3935520"/>
            <a:ext cx="57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исло ошибок →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Решения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нижение доли ошибок ввода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5240" y="1911240"/>
            <a:ext cx="520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дим от необходимости менять раскл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511960" y="1984320"/>
          <a:ext cx="342108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1960" y="1984320"/>
                    <a:ext cx="34210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Решения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нижение доли ошибок ввод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5240" y="1911240"/>
            <a:ext cx="520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кращаем количество действий пользователя для ввод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511960" y="1984320"/>
          <a:ext cx="342108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1960" y="1984320"/>
                    <a:ext cx="34210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шения</a:t>
            </a:r>
            <a:br>
              <a:rPr sz="48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нижение доли ошибок ввода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5240" y="1911240"/>
            <a:ext cx="520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авляем от необходим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мать над форма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99000" y="1984320"/>
          <a:ext cx="343404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9000" y="1984320"/>
                    <a:ext cx="343404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шения</a:t>
            </a:r>
            <a:br>
              <a:rPr sz="48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нижение доли ошибок ввода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4880" y="1911240"/>
            <a:ext cx="51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знают, как ввести «+» на своем телеф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502240" y="1984320"/>
          <a:ext cx="342252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2240" y="1984320"/>
                    <a:ext cx="342252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шения</a:t>
            </a:r>
            <a:br>
              <a:rPr sz="48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ображение данных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4880" y="1911240"/>
            <a:ext cx="51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сть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502240" y="1984320"/>
          <a:ext cx="342252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2240" y="1984320"/>
                    <a:ext cx="342252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0:48:29Z</dcterms:created>
  <dc:creator>Платон</dc:creator>
  <dc:description/>
  <dc:language>en-US</dc:language>
  <cp:lastModifiedBy>arsy</cp:lastModifiedBy>
  <dcterms:modified xsi:type="dcterms:W3CDTF">2006-11-14T07:51:37Z</dcterms:modified>
  <cp:revision>148</cp:revision>
  <dc:subject/>
  <dc:title>Проектирование пользовательского интерфейса сайта www.beeline.ru</dc:title>
</cp:coreProperties>
</file>