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EBF-E61A-4B2D-8173-BC742A91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23A-255F-4433-95AB-87DBDB2A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E80-5515-4101-B59B-59E986E2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507-3B5F-49E3-ACFB-F3BB1781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103-C58E-4FED-8103-9EA4E765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07E-E11D-4BF3-AB72-98DCC9D0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E5D-1558-4E98-922A-DBDEB1F4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213-372D-4E69-B54E-A93B3B4D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6C2-45E5-4167-B7AC-801C8D66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54D-D5B4-44B4-9CC3-EE963D57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9DE-E318-432C-AA58-CE239E55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92D-B2B8-4C6A-8AE3-A1330A4A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0371-EFF9-4E58-BCED-24A0D799A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png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6.png"/><Relationship Id="rId2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2.png"/><Relationship Id="rId1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png"/><Relationship Id="rId1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3.png"/><Relationship Id="rId1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струирование языка пиктограмм пользовательского интерфей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484280"/>
            <a:ext cx="864216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516720" y="1628640"/>
          <a:ext cx="1079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162864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588000" y="3068640"/>
          <a:ext cx="107964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306864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356000" y="3068640"/>
          <a:ext cx="107964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306864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635280" y="4508640"/>
          <a:ext cx="1079640" cy="107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508640"/>
                    <a:ext cx="107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435640" y="4508640"/>
          <a:ext cx="1079640" cy="107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5640" y="4508640"/>
                    <a:ext cx="107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7236000" y="4508640"/>
          <a:ext cx="1079280" cy="1079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6000" y="4508640"/>
                    <a:ext cx="1079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95280" y="19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3429000"/>
            <a:ext cx="25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чка сч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869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4365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924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148428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356000" y="1628640"/>
          <a:ext cx="1079640" cy="1079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56000" y="162864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484280"/>
            <a:ext cx="864216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еделения (типы строче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773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чк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 услу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068640"/>
            <a:ext cx="240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чк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продаже проду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450864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ч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 отработанно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365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2924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148428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76720" y="1628640"/>
          <a:ext cx="10792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2864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156360" y="1628640"/>
          <a:ext cx="107964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62864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716360" y="4508640"/>
          <a:ext cx="1079640" cy="107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4508640"/>
                    <a:ext cx="107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7596360" y="4508640"/>
          <a:ext cx="1079280" cy="107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6360" y="4508640"/>
                    <a:ext cx="1079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276720" y="4508640"/>
          <a:ext cx="1079280" cy="107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4508640"/>
                    <a:ext cx="1079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276720" y="3068640"/>
          <a:ext cx="1079280" cy="10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306864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56360" y="3068640"/>
          <a:ext cx="1079640" cy="1079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56360" y="306864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156360" y="4508640"/>
          <a:ext cx="1079640" cy="1079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56360" y="4508640"/>
                    <a:ext cx="107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1484280"/>
            <a:ext cx="864216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пределения (состояния строче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1773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язанные стр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3213000"/>
            <a:ext cx="24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бодные стр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924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0" y="148428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365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4869000"/>
            <a:ext cx="24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ые стр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95640" y="4508640"/>
          <a:ext cx="107964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4508640"/>
                    <a:ext cx="107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877080" y="4508640"/>
          <a:ext cx="107964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508640"/>
                    <a:ext cx="107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877080" y="3141720"/>
          <a:ext cx="1079640" cy="107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3141720"/>
                    <a:ext cx="107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877080" y="1628640"/>
          <a:ext cx="1079640" cy="107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77080" y="162864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067280" y="3068640"/>
          <a:ext cx="1079280" cy="107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67280" y="306864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067280" y="1628640"/>
          <a:ext cx="1079280" cy="10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67280" y="162864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7236000" y="2565360"/>
          <a:ext cx="10792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256536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435640" y="2565360"/>
          <a:ext cx="107964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256536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516720" y="1484280"/>
          <a:ext cx="107964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148428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356000" y="3645000"/>
          <a:ext cx="1079640" cy="107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56000" y="3645000"/>
                    <a:ext cx="107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516720" y="3645000"/>
          <a:ext cx="1079640" cy="107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3645000"/>
                    <a:ext cx="107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635280" y="2565360"/>
          <a:ext cx="1079640" cy="10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5280" y="256536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708360" y="4724280"/>
          <a:ext cx="1079640" cy="1079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08360" y="472428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508720" y="4724280"/>
          <a:ext cx="1079280" cy="1079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08720" y="472428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356000" y="1484280"/>
          <a:ext cx="1079640" cy="1079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56000" y="148428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250920" y="1484280"/>
            <a:ext cx="864216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(состояния счет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278136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правленный…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 ожидании опла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70028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тправленный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чернов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4005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лаченн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3645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2565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148428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4724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5048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ые (сче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6156360" y="4508640"/>
          <a:ext cx="107964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4508640"/>
                    <a:ext cx="107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716360" y="4508640"/>
          <a:ext cx="107964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4508640"/>
                    <a:ext cx="107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19640" y="4508640"/>
          <a:ext cx="1079280" cy="107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4508640"/>
                    <a:ext cx="1079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348000" y="3068640"/>
          <a:ext cx="1079640" cy="107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306864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7596360" y="3068640"/>
          <a:ext cx="1079280" cy="107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96360" y="306864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788000" y="3141720"/>
          <a:ext cx="934920" cy="93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88000" y="3141720"/>
                    <a:ext cx="9349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156360" y="3068640"/>
          <a:ext cx="1079640" cy="1079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56360" y="306864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380360" y="1628640"/>
          <a:ext cx="1079280" cy="1079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80360" y="162864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788000" y="1700280"/>
          <a:ext cx="1079280" cy="1079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88000" y="1700280"/>
                    <a:ext cx="1079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348000" y="1700280"/>
          <a:ext cx="1079640" cy="1079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48000" y="1700280"/>
                    <a:ext cx="107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250920" y="1484280"/>
            <a:ext cx="864216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3357720"/>
            <a:ext cx="24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да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465300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азать (спис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4365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2924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148428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1484280"/>
            <a:ext cx="864216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3357720"/>
            <a:ext cx="24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2924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1773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счет из строч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356000" y="1628640"/>
          <a:ext cx="1079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62864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516720" y="1628640"/>
          <a:ext cx="107964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162864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435640" y="3068640"/>
          <a:ext cx="107964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306864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932360" y="2565360"/>
          <a:ext cx="1079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56536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635280" y="2565360"/>
          <a:ext cx="107964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256536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732720" y="4724280"/>
          <a:ext cx="107928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472428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659640" y="3645000"/>
          <a:ext cx="1079280" cy="107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3645000"/>
                    <a:ext cx="1079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732720" y="2565360"/>
          <a:ext cx="1079280" cy="107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32720" y="256536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732720" y="1484280"/>
          <a:ext cx="1079280" cy="10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32720" y="148428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211640" y="1484280"/>
          <a:ext cx="1079640" cy="1079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11640" y="148428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067280" y="3645000"/>
          <a:ext cx="1079280" cy="1079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67280" y="3645000"/>
                    <a:ext cx="1079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564000" y="4724280"/>
          <a:ext cx="1079280" cy="1079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64000" y="472428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932360" y="4724280"/>
          <a:ext cx="1079640" cy="1079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32360" y="472428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250920" y="1484280"/>
            <a:ext cx="864216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стоятель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278136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удалить строчку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совс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170028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удалить строчку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из с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386064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обавить строчку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в с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3645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2565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148428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4724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4869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обавить строч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уч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иктограммы команд для работы со свободными строч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68360" y="1628640"/>
          <a:ext cx="10792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68360" y="2708280"/>
          <a:ext cx="1079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70828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68360" y="3789360"/>
          <a:ext cx="107928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78936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68360" y="4869000"/>
          <a:ext cx="1079280" cy="107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4869000"/>
                    <a:ext cx="1079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572000" y="1628640"/>
          <a:ext cx="1079640" cy="107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162864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572000" y="4869000"/>
          <a:ext cx="1079640" cy="1079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869000"/>
                    <a:ext cx="107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572000" y="3789360"/>
          <a:ext cx="1079640" cy="1079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2000" y="378936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549080" y="191628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авить строч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 оказанной услу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50880" y="2924280"/>
            <a:ext cx="29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авить строч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 отработанном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4005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авить строч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проданном проду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8720" y="522936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алить строч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53800" y="206064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рать строчки в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3080" y="407664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ь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бод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р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52000" y="515772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любые стр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ктограммы команд для работы со сче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49080" y="191628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авить пустой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48720" y="31338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алить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47640" y="42861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править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54160" y="1844640"/>
            <a:ext cx="26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тправленные с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4160" y="4076640"/>
            <a:ext cx="21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лаченные с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2720" y="522936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любые с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68360" y="1628640"/>
          <a:ext cx="10792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68360" y="2708280"/>
          <a:ext cx="1079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70828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68360" y="3789360"/>
          <a:ext cx="107928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78936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4572000" y="4869000"/>
          <a:ext cx="1079640" cy="107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869000"/>
                    <a:ext cx="107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4572000" y="2708280"/>
          <a:ext cx="1079640" cy="107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270828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572000" y="1628640"/>
          <a:ext cx="1079640" cy="10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162864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572000" y="3789360"/>
          <a:ext cx="1079640" cy="1079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2000" y="378936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5654520" y="292428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правленные с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ктограммы команд для работы со строчками в сче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48360" y="184464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авить в счет строч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 оказанной услу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47640" y="40053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авить в счет строчку о проданном проду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52360" y="184464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алить строч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счета в ку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2360" y="29242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алить строч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с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68360" y="1628640"/>
          <a:ext cx="10792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468360" y="2708280"/>
          <a:ext cx="1079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70828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468360" y="3789360"/>
          <a:ext cx="107928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78936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572000" y="1628640"/>
          <a:ext cx="1079640" cy="107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62864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572000" y="2708280"/>
          <a:ext cx="1079640" cy="107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270828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1550880" y="2924280"/>
            <a:ext cx="29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авить в счет строч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 отработанном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а главных секрета пиктограммостро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жде чем рисовать пиктограмму, нужно хорошо продумать, что на ней должно быть изображ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нужно нарисовать много пиктограмм, нужно продумать, что будет изображено на каждой из них, прежде чем приниматься за иллюстраторскую рабо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ктограммы команд для регистрации поступления дене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48720" y="19890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авить опл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48720" y="299736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алить опл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8360" y="1628640"/>
          <a:ext cx="10792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68360" y="2708280"/>
          <a:ext cx="1079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70828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при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ета состоят из стр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чки могут представлять собой записи об оказанных услугах, проданных продуктах или отработанном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чка не обязательно должна быть связана со счетом. Строчка может бы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сть находится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ч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пользователь ввод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чки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ч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ре выполнения работ для клиентов, и уже потом составляет из готовых строчек с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ета могут оплачиваться в несколько ша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манды для работы со свободными строч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авить в кучу строчку об оказанной усл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авить в кучу строчку об обработанном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авить в кучу строчку о продаже проду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алить стро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рать выбранные строчки в сч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ать только свободные стр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ать любые стро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манды для работы со сче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авить пустой с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алить с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править с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неотправленные с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отправленные с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оплаченные с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любые с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манды для работы со строчками в сче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авить в счет строчку об оказанной услу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авить в счет строчку об обработанном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авить в счет строчку о продаже проду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алить строчку из счета в ку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алить строчку со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манды для регистрации поступления дене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авить опл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алить опл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категор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лементов пикт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стоя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лементы пиктограмм, разбитые по категори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557360"/>
            <a:ext cx="864216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692360" y="1557360"/>
            <a:ext cx="0" cy="424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557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32720" y="1557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989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628640"/>
            <a:ext cx="16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628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628640"/>
            <a:ext cx="16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1628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стоя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2133720"/>
            <a:ext cx="208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бав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дал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бр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аз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прав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133720"/>
            <a:ext cx="2087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ч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л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3640" y="2133720"/>
            <a:ext cx="280836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 услу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 отработанном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 продаже проду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яз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обод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отправл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правл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лач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2133720"/>
            <a:ext cx="2087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 с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с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куч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1:03:15Z</dcterms:created>
  <dc:creator>ToiMoi</dc:creator>
  <dc:description/>
  <dc:language>en-US</dc:language>
  <cp:lastModifiedBy>kortunov</cp:lastModifiedBy>
  <dcterms:modified xsi:type="dcterms:W3CDTF">2006-11-13T18:06:26Z</dcterms:modified>
  <cp:revision>30</cp:revision>
  <dc:subject/>
  <dc:title>Слайд 1</dc:title>
</cp:coreProperties>
</file>