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58.png" ContentType="image/png"/>
  <Override PartName="/ppt/media/image20.png" ContentType="image/png"/>
  <Override PartName="/ppt/media/image18.wmf" ContentType="image/x-wmf"/>
  <Override PartName="/ppt/media/image57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13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47.wmf" ContentType="image/x-wmf"/>
  <Override PartName="/ppt/media/image44.jpeg" ContentType="image/jpeg"/>
  <Override PartName="/ppt/media/image49.png" ContentType="image/png"/>
  <Override PartName="/ppt/media/image50.png" ContentType="image/png"/>
  <Override PartName="/ppt/media/image46.jpeg" ContentType="image/jpeg"/>
  <Override PartName="/ppt/media/image54.png" ContentType="image/png"/>
  <Override PartName="/ppt/media/image51.jpeg" ContentType="image/jpeg"/>
  <Override PartName="/ppt/media/image45.jpeg" ContentType="image/jpeg"/>
  <Override PartName="/ppt/media/image55.png" ContentType="image/png"/>
  <Override PartName="/ppt/media/image52.jpeg" ContentType="image/jpeg"/>
  <Override PartName="/ppt/media/image48.jpeg" ContentType="image/jpeg"/>
  <Override PartName="/ppt/media/image53.jpeg" ContentType="image/jpeg"/>
  <Override PartName="/ppt/media/image43.png" ContentType="image/png"/>
  <Override PartName="/ppt/media/image56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40.png" ContentType="image/png"/>
  <Override PartName="/ppt/media/image9.jpeg" ContentType="image/jpeg"/>
  <Override PartName="/ppt/media/image8.png" ContentType="image/png"/>
  <Override PartName="/ppt/media/image38.png" ContentType="image/png"/>
  <Override PartName="/ppt/media/image31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7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F7F5-49B0-4F21-84AA-A4A6519BF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768480"/>
            <a:ext cx="86868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2E51-11A0-4856-ACFE-521C97416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390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990720"/>
            <a:ext cx="42390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768480"/>
            <a:ext cx="42390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768480"/>
            <a:ext cx="42390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C22A-5E0E-45C7-8F1D-FE5D4BFF3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279684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990720"/>
            <a:ext cx="279684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990720"/>
            <a:ext cx="279684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768480"/>
            <a:ext cx="279684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768480"/>
            <a:ext cx="279684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768480"/>
            <a:ext cx="279684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E367-FB26-4A3B-9560-EA24C7E56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868680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390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990720"/>
            <a:ext cx="42390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09680" y="-360"/>
            <a:ext cx="68263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390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990720"/>
            <a:ext cx="42390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768480"/>
            <a:ext cx="42390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868680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A2B2-24AD-40F2-B38B-17929939D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390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990720"/>
            <a:ext cx="42390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768480"/>
            <a:ext cx="42390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390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990720"/>
            <a:ext cx="42390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768480"/>
            <a:ext cx="86868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768480"/>
            <a:ext cx="86868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390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990720"/>
            <a:ext cx="42390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768480"/>
            <a:ext cx="42390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768480"/>
            <a:ext cx="42390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279684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990720"/>
            <a:ext cx="279684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990720"/>
            <a:ext cx="279684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768480"/>
            <a:ext cx="279684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768480"/>
            <a:ext cx="279684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768480"/>
            <a:ext cx="279684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6BF0-B422-4F84-AA03-42E8E28AE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390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990720"/>
            <a:ext cx="42390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EAFD-234C-40FB-ADCC-888F2DD66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3869-9FAF-4EAE-9327-37A77621C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09680" y="-360"/>
            <a:ext cx="68263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B54D-56E1-41ED-B66D-E5A1C99D1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390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990720"/>
            <a:ext cx="42390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768480"/>
            <a:ext cx="42390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993D-3305-4A70-AC94-A703B2E2A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390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990720"/>
            <a:ext cx="42390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768480"/>
            <a:ext cx="42390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F664-5A7E-4E67-A661-9F2AB8643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390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990720"/>
            <a:ext cx="42390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768480"/>
            <a:ext cx="868680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10C4-1491-4551-A13F-DC9AB3163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90720"/>
            <a:ext cx="8686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28000" y="6524280"/>
            <a:ext cx="11160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d95d5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AF3F-4A9E-44F5-A02D-ECE6144BB251}" type="slidenum">
              <a:rPr b="1" lang="en-US" sz="2400" spc="-1" strike="noStrike">
                <a:solidFill>
                  <a:srgbClr val="d95d5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89080" y="6289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1360" y="6289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53080"/>
            <a:ext cx="647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95d5d"/>
                </a:solidFill>
                <a:latin typeface="Arial"/>
              </a:rPr>
              <a:t>Опыт улучшения интерфейса 1С:Бухгалтерии 8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●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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5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11.jpeg"/><Relationship Id="rId18" Type="http://schemas.openxmlformats.org/officeDocument/2006/relationships/image" Target="../media/image12.jpeg"/><Relationship Id="rId19" Type="http://schemas.openxmlformats.org/officeDocument/2006/relationships/image" Target="../media/image13.jpeg"/><Relationship Id="rId20" Type="http://schemas.openxmlformats.org/officeDocument/2006/relationships/image" Target="../media/image14.png"/><Relationship Id="rId21" Type="http://schemas.openxmlformats.org/officeDocument/2006/relationships/image" Target="../media/image15.jpeg"/><Relationship Id="rId22" Type="http://schemas.openxmlformats.org/officeDocument/2006/relationships/image" Target="../media/image16.jpeg"/><Relationship Id="rId23" Type="http://schemas.openxmlformats.org/officeDocument/2006/relationships/image" Target="../media/image17.png"/><Relationship Id="rId24" Type="http://schemas.openxmlformats.org/officeDocument/2006/relationships/image" Target="../media/image18.wmf"/><Relationship Id="rId25" Type="http://schemas.openxmlformats.org/officeDocument/2006/relationships/image" Target="../media/image19.wmf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20.png"/><Relationship Id="rId28" Type="http://schemas.openxmlformats.org/officeDocument/2006/relationships/oleObject" Target="../embeddings/oleObject2.bin"/><Relationship Id="rId29" Type="http://schemas.openxmlformats.org/officeDocument/2006/relationships/image" Target="../media/image21.png"/><Relationship Id="rId30" Type="http://schemas.openxmlformats.org/officeDocument/2006/relationships/oleObject" Target="../embeddings/oleObject3.bin"/><Relationship Id="rId31" Type="http://schemas.openxmlformats.org/officeDocument/2006/relationships/image" Target="../media/image22.png"/><Relationship Id="rId32" Type="http://schemas.openxmlformats.org/officeDocument/2006/relationships/oleObject" Target="../embeddings/oleObject4.bin"/><Relationship Id="rId33" Type="http://schemas.openxmlformats.org/officeDocument/2006/relationships/image" Target="../media/image23.png"/><Relationship Id="rId34" Type="http://schemas.openxmlformats.org/officeDocument/2006/relationships/oleObject" Target="../embeddings/oleObject5.bin"/><Relationship Id="rId35" Type="http://schemas.openxmlformats.org/officeDocument/2006/relationships/image" Target="../media/image24.png"/><Relationship Id="rId36" Type="http://schemas.openxmlformats.org/officeDocument/2006/relationships/image" Target="../media/image25.png"/><Relationship Id="rId37" Type="http://schemas.openxmlformats.org/officeDocument/2006/relationships/image" Target="../media/image26.png"/><Relationship Id="rId38" Type="http://schemas.openxmlformats.org/officeDocument/2006/relationships/image" Target="../media/image27.png"/><Relationship Id="rId39" Type="http://schemas.openxmlformats.org/officeDocument/2006/relationships/image" Target="../media/image28.png"/><Relationship Id="rId40" Type="http://schemas.openxmlformats.org/officeDocument/2006/relationships/image" Target="../media/image29.png"/><Relationship Id="rId41" Type="http://schemas.openxmlformats.org/officeDocument/2006/relationships/image" Target="../media/image30.png"/><Relationship Id="rId42" Type="http://schemas.openxmlformats.org/officeDocument/2006/relationships/image" Target="../media/image31.png"/><Relationship Id="rId43" Type="http://schemas.openxmlformats.org/officeDocument/2006/relationships/image" Target="../media/image32.png"/><Relationship Id="rId44" Type="http://schemas.openxmlformats.org/officeDocument/2006/relationships/image" Target="../media/image33.jpeg"/><Relationship Id="rId45" Type="http://schemas.openxmlformats.org/officeDocument/2006/relationships/image" Target="../media/image34.png"/><Relationship Id="rId46" Type="http://schemas.openxmlformats.org/officeDocument/2006/relationships/image" Target="../media/image35.png"/><Relationship Id="rId47" Type="http://schemas.openxmlformats.org/officeDocument/2006/relationships/image" Target="../media/image36.png"/><Relationship Id="rId48" Type="http://schemas.openxmlformats.org/officeDocument/2006/relationships/image" Target="../media/image37.png"/><Relationship Id="rId49" Type="http://schemas.openxmlformats.org/officeDocument/2006/relationships/image" Target="../media/image38.png"/><Relationship Id="rId50" Type="http://schemas.openxmlformats.org/officeDocument/2006/relationships/image" Target="../media/image39.png"/><Relationship Id="rId51" Type="http://schemas.openxmlformats.org/officeDocument/2006/relationships/image" Target="../media/image40.png"/><Relationship Id="rId52" Type="http://schemas.openxmlformats.org/officeDocument/2006/relationships/image" Target="../media/image41.png"/><Relationship Id="rId53" Type="http://schemas.openxmlformats.org/officeDocument/2006/relationships/image" Target="../media/image42.png"/><Relationship Id="rId54" Type="http://schemas.openxmlformats.org/officeDocument/2006/relationships/image" Target="../media/image43.png"/><Relationship Id="rId55" Type="http://schemas.openxmlformats.org/officeDocument/2006/relationships/image" Target="../media/image44.jpeg"/><Relationship Id="rId56" Type="http://schemas.openxmlformats.org/officeDocument/2006/relationships/image" Target="../media/image45.jpeg"/><Relationship Id="rId57" Type="http://schemas.openxmlformats.org/officeDocument/2006/relationships/image" Target="../media/image46.jpeg"/><Relationship Id="rId5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image" Target="../media/image48.jpeg"/><Relationship Id="rId4" Type="http://schemas.openxmlformats.org/officeDocument/2006/relationships/image" Target="../media/image42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image" Target="../media/image2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51.jpeg"/><Relationship Id="rId10" Type="http://schemas.openxmlformats.org/officeDocument/2006/relationships/image" Target="../media/image52.jpeg"/><Relationship Id="rId11" Type="http://schemas.openxmlformats.org/officeDocument/2006/relationships/image" Target="../media/image53.jpeg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5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5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4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5280" y="1197000"/>
            <a:ext cx="51055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Опыт улучшения интерфейса 1С:Бухгалтерии 8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5157720"/>
            <a:ext cx="4357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Олег Фог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Руководитель отдела разработки программ бухгалтерского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79640" y="44280"/>
            <a:ext cx="6264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00"/>
                </a:solidFill>
                <a:latin typeface="Arial"/>
              </a:rPr>
              <a:t>Всемирный День Юзабилити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00720" y="476280"/>
            <a:ext cx="26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9933"/>
                </a:solidFill>
                <a:latin typeface="Arial"/>
              </a:rPr>
              <a:t>14 ноября 2006 года, Моск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5640" y="0"/>
            <a:ext cx="6335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латежное поручение (исходящее)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открытии формы видны все основные реквизиты, необходимые для печати платежки (нет закладки «Печать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квизиты, которые редактируются редко (ИНН, КПП), объединены в группы, редактирование групп производится в отдельном ок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обый реквизит «даты оплаты» вынесен в отдельную группу и выделен отступ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изменении организации и контрагента подставляется р/с с нужной валютой, если он един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изменении контрагента подставляется  договор с нужными условиями, если он един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начале выбора р/с, договора при отсутствии подходящих для выбора значений предлагается сразу ввести н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казались от наименования расчетного с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7A58-9E93-480F-9B46-1357975B4B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5640" y="0"/>
            <a:ext cx="6705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латежное поручение (исходящее)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-36540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воде нового р/с или договора они вводятся уже с предустановленными знач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ввода нового р/с, договора он сразу подставляется в форму доку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отказе от ввода нового элемента при выборе р/с, договора форма выбора открывается без отбора по услов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воде нового р/с или договора в форме выбора они вводятся уже с предустановленными значениями реквизитов – такими, по которым был установлен от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ечати две кнопки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ечать» и «Просмотр» с икон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нопка «Печать»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чать докумен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рин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просмо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нопка «Просмотр» открывает отдельную форму для просмо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форме для просмотра упрощено редактирование печатной формы можно и указать количество коп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1E089-2A0D-407A-9B9E-8B06059DF8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Юзабилити-тестирование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ное тестирование по тем же зада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видеозаписей и анк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енная оценка результатов тес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сравнительного отчета и оценка достигнутого резуль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2BB5-07B6-4B16-9AB8-0985C1F750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Заключение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сегодняшний день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олученные результа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работы по улучшению интерфейса дают повод надеяться, что в новой редакции типовой конфигурации 1С:Бухгалтерии 8.0 работу пользователей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действительно удастся сделать удобн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ы не останавливаемся на достигну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должаем работу по улучшению интерфей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ширяем штат специалистов по дизайну интерфей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CEDD2-5904-481D-A23E-37E5139A56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5486400"/>
            <a:ext cx="4860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Олег Фог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Руководитель отдела разработки программ бухгалтерского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844640"/>
            <a:ext cx="6400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68360" y="44280"/>
            <a:ext cx="6264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Всемирный День Юзабилити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6280"/>
            <a:ext cx="26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9933"/>
                </a:solidFill>
                <a:latin typeface="Arial"/>
              </a:rPr>
              <a:t>14 ноября 2006 года, Моск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990720"/>
            <a:ext cx="457200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рма “1С” основана в 1991 го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С” - чисто софтверная фир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трибьюция, поддержка и разработка компьютерных программ и баз данных для массового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и разработки делового назначения: 1С:Предприятие,  1С:Бухгалтер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С:Эл. почта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Архив, 1С:Гарант и друг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и издание продуктов для отдыха и обучения: Игры, 1С:Репетитор, мультимеди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трибьюция продуктов ведущих фирм: Microsoft, Novell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land, Symantec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оМТ, Никита и ещ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ндоров программных проду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коммуникации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ы данных, государственные проекты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ориентируемся на массового потреб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тате фирмы боле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ый большой объем продаж программного обеспечения в СН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ючи к успех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дустриальный подход к разработке, тиражированию, продаже, поддержке програ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00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ответствие программных продуктов и партнерской сети по их распростран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5"/>
          <a:stretch/>
        </p:blipFill>
        <p:spPr>
          <a:xfrm>
            <a:off x="4530600" y="3486240"/>
            <a:ext cx="1527480" cy="1533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6"/>
          <a:stretch/>
        </p:blipFill>
        <p:spPr>
          <a:xfrm>
            <a:off x="6689880" y="2990880"/>
            <a:ext cx="944280" cy="1219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7"/>
          <a:stretch/>
        </p:blipFill>
        <p:spPr>
          <a:xfrm>
            <a:off x="4903920" y="665280"/>
            <a:ext cx="1163520" cy="1298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8"/>
          <a:stretch/>
        </p:blipFill>
        <p:spPr>
          <a:xfrm>
            <a:off x="5424480" y="555480"/>
            <a:ext cx="1000080" cy="136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9"/>
          <a:stretch/>
        </p:blipFill>
        <p:spPr>
          <a:xfrm>
            <a:off x="5958000" y="380880"/>
            <a:ext cx="1000080" cy="1371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0"/>
          <a:stretch/>
        </p:blipFill>
        <p:spPr>
          <a:xfrm>
            <a:off x="6462720" y="318960"/>
            <a:ext cx="98424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21"/>
          <a:stretch/>
        </p:blipFill>
        <p:spPr>
          <a:xfrm>
            <a:off x="6872400" y="209520"/>
            <a:ext cx="1000080" cy="1371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2"/>
          <a:stretch/>
        </p:blipFill>
        <p:spPr>
          <a:xfrm>
            <a:off x="5846760" y="3576600"/>
            <a:ext cx="993600" cy="1287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3">
            <a:lum contrast="54000"/>
          </a:blip>
          <a:stretch/>
        </p:blipFill>
        <p:spPr>
          <a:xfrm>
            <a:off x="7435800" y="3247920"/>
            <a:ext cx="957240" cy="1190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4"/>
          <a:stretch/>
        </p:blipFill>
        <p:spPr>
          <a:xfrm>
            <a:off x="6872400" y="2205000"/>
            <a:ext cx="2271600" cy="665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5"/>
          <a:stretch/>
        </p:blipFill>
        <p:spPr>
          <a:xfrm>
            <a:off x="6694560" y="1938240"/>
            <a:ext cx="2097000" cy="615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7397640" y="0"/>
          <a:ext cx="995400" cy="13716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397640" y="0"/>
                    <a:ext cx="995400" cy="1371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98" name=""/>
          <p:cNvGrpSpPr/>
          <p:nvPr/>
        </p:nvGrpSpPr>
        <p:grpSpPr>
          <a:xfrm>
            <a:off x="7251840" y="4176720"/>
            <a:ext cx="1892160" cy="686880"/>
            <a:chOff x="7251840" y="4176720"/>
            <a:chExt cx="1892160" cy="686880"/>
          </a:xfrm>
        </p:grpSpPr>
        <p:graphicFrame>
          <p:nvGraphicFramePr>
            <p:cNvPr id="99" name=""/>
            <p:cNvGraphicFramePr/>
            <p:nvPr/>
          </p:nvGraphicFramePr>
          <p:xfrm>
            <a:off x="7251840" y="4254480"/>
            <a:ext cx="455760" cy="60912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7251840" y="4254480"/>
                      <a:ext cx="455760" cy="60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7777440" y="4286160"/>
            <a:ext cx="412560" cy="56952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7777440" y="4286160"/>
                      <a:ext cx="412560" cy="56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8213760" y="4217760"/>
            <a:ext cx="486000" cy="572760"/>
          </p:xfrm>
          <a:graphic>
            <a:graphicData uri="http://schemas.openxmlformats.org/presentationml/2006/ole">
              <p:oleObj r:id="rId32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8213760" y="4217760"/>
                      <a:ext cx="486000" cy="57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8455320" y="4176720"/>
            <a:ext cx="688680" cy="658440"/>
          </p:xfrm>
          <a:graphic>
            <a:graphicData uri="http://schemas.openxmlformats.org/presentationml/2006/ole">
              <p:oleObj r:id="rId34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8455320" y="4176720"/>
                      <a:ext cx="688680" cy="65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07" name="" descr=""/>
          <p:cNvPicPr/>
          <p:nvPr/>
        </p:nvPicPr>
        <p:blipFill>
          <a:blip r:embed="rId36"/>
          <a:stretch/>
        </p:blipFill>
        <p:spPr>
          <a:xfrm>
            <a:off x="6132600" y="1550880"/>
            <a:ext cx="1915920" cy="71136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4657680" y="4929120"/>
            <a:ext cx="4572000" cy="1947960"/>
            <a:chOff x="4657680" y="4929120"/>
            <a:chExt cx="4572000" cy="1947960"/>
          </a:xfrm>
        </p:grpSpPr>
        <p:pic>
          <p:nvPicPr>
            <p:cNvPr id="109" name="" descr=""/>
            <p:cNvPicPr/>
            <p:nvPr/>
          </p:nvPicPr>
          <p:blipFill>
            <a:blip r:embed="rId37"/>
            <a:stretch/>
          </p:blipFill>
          <p:spPr>
            <a:xfrm>
              <a:off x="4735440" y="4929120"/>
              <a:ext cx="1485720" cy="3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8"/>
            <a:stretch/>
          </p:blipFill>
          <p:spPr>
            <a:xfrm>
              <a:off x="6337080" y="4929120"/>
              <a:ext cx="1720800" cy="3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9"/>
            <a:stretch/>
          </p:blipFill>
          <p:spPr>
            <a:xfrm>
              <a:off x="8213760" y="4929120"/>
              <a:ext cx="81576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40"/>
            <a:stretch/>
          </p:blipFill>
          <p:spPr>
            <a:xfrm>
              <a:off x="6298920" y="5397480"/>
              <a:ext cx="16210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41"/>
            <a:stretch/>
          </p:blipFill>
          <p:spPr>
            <a:xfrm>
              <a:off x="5713200" y="5311800"/>
              <a:ext cx="50796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42"/>
            <a:srcRect l="0" t="10215" r="48010" b="0"/>
            <a:stretch/>
          </p:blipFill>
          <p:spPr>
            <a:xfrm>
              <a:off x="4657680" y="5354640"/>
              <a:ext cx="97632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3"/>
            <a:stretch/>
          </p:blipFill>
          <p:spPr>
            <a:xfrm>
              <a:off x="6141960" y="6246720"/>
              <a:ext cx="152388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44"/>
            <a:srcRect l="0" t="19417" r="0" b="0"/>
            <a:stretch/>
          </p:blipFill>
          <p:spPr>
            <a:xfrm>
              <a:off x="7823160" y="6485040"/>
              <a:ext cx="117144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5"/>
            <a:stretch/>
          </p:blipFill>
          <p:spPr>
            <a:xfrm>
              <a:off x="5518080" y="6289560"/>
              <a:ext cx="4842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6"/>
            <a:stretch/>
          </p:blipFill>
          <p:spPr>
            <a:xfrm>
              <a:off x="6377040" y="5780160"/>
              <a:ext cx="1055520" cy="3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47"/>
            <a:stretch/>
          </p:blipFill>
          <p:spPr>
            <a:xfrm>
              <a:off x="4697280" y="6262560"/>
              <a:ext cx="74124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48"/>
            <a:stretch/>
          </p:blipFill>
          <p:spPr>
            <a:xfrm>
              <a:off x="6181560" y="6588000"/>
              <a:ext cx="148896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9"/>
            <a:srcRect l="0" t="7559" r="30236" b="56708"/>
            <a:stretch/>
          </p:blipFill>
          <p:spPr>
            <a:xfrm>
              <a:off x="7950240" y="5354640"/>
              <a:ext cx="12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0"/>
            <a:stretch/>
          </p:blipFill>
          <p:spPr>
            <a:xfrm>
              <a:off x="7470720" y="5780160"/>
              <a:ext cx="101592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51"/>
            <a:stretch/>
          </p:blipFill>
          <p:spPr>
            <a:xfrm>
              <a:off x="8526240" y="5999040"/>
              <a:ext cx="59544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2"/>
            <a:stretch/>
          </p:blipFill>
          <p:spPr>
            <a:xfrm>
              <a:off x="4662360" y="5924520"/>
              <a:ext cx="1111320" cy="303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" descr=""/>
          <p:cNvPicPr/>
          <p:nvPr/>
        </p:nvPicPr>
        <p:blipFill>
          <a:blip r:embed="rId53"/>
          <a:stretch/>
        </p:blipFill>
        <p:spPr>
          <a:xfrm>
            <a:off x="4330800" y="1504800"/>
            <a:ext cx="2530440" cy="2603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4"/>
          <a:stretch/>
        </p:blipFill>
        <p:spPr>
          <a:xfrm>
            <a:off x="8139240" y="1595520"/>
            <a:ext cx="1004760" cy="106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5"/>
          <a:stretch/>
        </p:blipFill>
        <p:spPr>
          <a:xfrm>
            <a:off x="7924680" y="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6"/>
          <a:stretch/>
        </p:blipFill>
        <p:spPr>
          <a:xfrm>
            <a:off x="8199360" y="2952720"/>
            <a:ext cx="944640" cy="1219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7"/>
          <a:stretch/>
        </p:blipFill>
        <p:spPr>
          <a:xfrm>
            <a:off x="6703920" y="4330800"/>
            <a:ext cx="507960" cy="5331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33360" y="-201960"/>
            <a:ext cx="483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Фирма «1С»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CDBD-3434-40ED-A442-DB21BE5E476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248520" y="0"/>
            <a:ext cx="2895480" cy="762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2995560" cy="3886200"/>
          </a:xfrm>
          <a:prstGeom prst="rect">
            <a:avLst/>
          </a:prstGeom>
          <a:ln w="1260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1700280"/>
            <a:ext cx="2868480" cy="2950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48120" y="838080"/>
            <a:ext cx="6095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программ 1С:Предприятие –основной продукт фирмы 1С и ее партнеров для автоматизации 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800 тыс. организаций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фициальных пользователей, на которых с программой работает боле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3 млн.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400 прикладных реш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150 фирм-партн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ся во многих странах ближнего и дальнего зарубеж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4200" indent="-15084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 и Вьетна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4572000"/>
            <a:ext cx="3124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52320" y="-360"/>
            <a:ext cx="5683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С:Предприятие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5029200"/>
            <a:ext cx="8915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а программ 1С:Предприят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нструмен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для автомат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Зна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как надо организовать управление и уч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0170-F695-4917-A324-5C67FFDBE0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8600" y="1463760"/>
            <a:ext cx="8686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го продано копий программ (шт.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,2 м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ом чис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грамм делового назначения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работки «1С» (шт.)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19 ты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гровых и обучающих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грамм (шт.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,9 мл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,2 млн. шт. –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реднем в день - 250 обслуженных организаций-партнеров, 10,5 тонн отгру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год – более 2 510 тонн софта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9 вагонов по 64 то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10666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09680" y="189000"/>
            <a:ext cx="693432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родажи ПО в штуках, тоннах и вагонах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5029200" y="4797360"/>
            <a:ext cx="4114800" cy="2060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2514600" y="4970520"/>
            <a:ext cx="2514600" cy="1887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1">
            <a:lum bright="18000"/>
          </a:blip>
          <a:stretch/>
        </p:blipFill>
        <p:spPr>
          <a:xfrm>
            <a:off x="0" y="497196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49793-832B-4EF4-91A0-B73D7DF915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990720"/>
            <a:ext cx="8686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С:Бухгалтерия стал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дустриальным стандар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етных реш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овая версия 1С:Бухгалтерия 8.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звана поднять этот стандарт на новый технологический и методологическ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ей воплощен опыт практической работы бухгалтеров сотен тысяч различных по размеру и видам деятельности предпри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ной 2006 г. мы заказал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зучение мнения пользовате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просы) ведущим аналитическим агентствам - COMCON, ROMIR Monitoring, TNS Gallup, ВЦИОМ, Башкирова и партнер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данным агентства COMCON пользователи 1С:Бухгалтерии 8.0 в среднем оценивают (по пятибалльной шкал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функциональность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ы и своевременность обновления форм отчетности на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уровень дове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 результатам работы программы на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spcBef>
                <a:spcPts val="4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удобств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боты на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99% пользователей 1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являют, что либо поменяют свою программу на новую версию (8.0), либо вовс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намерены менять програм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хучета (TNS Gall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87% готовы рекомендовать программы 1С своим коллег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казатель значительно выше, чем у других программ (TNS Gall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762120"/>
            <a:ext cx="35812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209680" y="76320"/>
            <a:ext cx="1067040" cy="968400"/>
            <a:chOff x="2209680" y="76320"/>
            <a:chExt cx="1067040" cy="968400"/>
          </a:xfrm>
        </p:grpSpPr>
        <p:pic>
          <p:nvPicPr>
            <p:cNvPr id="147" name="" descr=""/>
            <p:cNvPicPr/>
            <p:nvPr/>
          </p:nvPicPr>
          <p:blipFill>
            <a:blip r:embed="rId12"/>
            <a:stretch/>
          </p:blipFill>
          <p:spPr>
            <a:xfrm>
              <a:off x="2209680" y="76320"/>
              <a:ext cx="10670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flipV="1">
              <a:off x="2455560" y="889920"/>
              <a:ext cx="703800" cy="12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238840" y="107280"/>
              <a:ext cx="661320" cy="1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29840" y="137880"/>
              <a:ext cx="38880" cy="65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159360" y="202320"/>
              <a:ext cx="100080" cy="687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2269440" y="776160"/>
              <a:ext cx="185400" cy="24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885760" y="108360"/>
              <a:ext cx="390960" cy="97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352680" y="76320"/>
            <a:ext cx="6934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С:Бухгалтерия – индустриальный стандарт учетны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C3FE1-FECA-48ED-BA74-33BFBBE2388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Улучшение интерфейса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гибкости и функциональности системы требует повышенного внимания к интерфей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ы поставили перед собой задачу улучшить интерфей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ы выработали стратегию улучшения и показатели качества, которые позволили бы оценить эффективность работы в этом направ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 наблюдения – к выстраиванию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методики анализа и изме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A601-CECD-45A9-BFDA-579434ED04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61960" y="0"/>
            <a:ext cx="6335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Юзабилити-тестирование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наиболее важных учас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ое пор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зад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задачи общей продолжительностью 40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и подбор фокус-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ное тестирование проводили с участием сотрудников 1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проблем с набором желающих участвовать в юзабилити-тестир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ьзователи с энтузиазмом отзываются на призыв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Хотите внести свой вклад в развитие 1С:Бухгалтерии 8.0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тест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алом зале устанавливается компьютер, оснащенный специальным ПО, регистрирующим действия пользо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о на видеокамеру снимается реакция пользо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разработали собственный стиль видеозаписи, который до это не встречали в открытых источни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9C8F-9AA1-4AF0-82F3-2AFE6244E9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Юзабилити-тестирование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видеозаписей и анк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видеозаписи анализируются по единой метод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енная оценка результатов тест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кси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ремя выполнения как заданий в целом, так и отдельных операций «внутри»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е проблемных участков, ситу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ксируются основные трудности по работе с фор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ирование и реализация изме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ка: порядка 15-ти основных изме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ощать не форму документа, но работу пользо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ывать не только удобство расположения реквизитов, но и бизнес-лог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2AD6-2763-403C-9C61-315C4EE4C9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826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латежное поручение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6320" y="865080"/>
            <a:ext cx="5175000" cy="3326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343400" y="2819520"/>
            <a:ext cx="4772160" cy="3989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9640" y="431496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рая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13120" y="2028960"/>
            <a:ext cx="25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вая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один из вариан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AFBD-E178-4D07-8EF7-2845F2E185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 Фогель</cp:lastModifiedBy>
  <dcterms:modified xsi:type="dcterms:W3CDTF">2006-11-21T12:05:18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