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514-D851-4ED6-9C6B-00E4CC0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394848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118-0762-4F68-93BA-8E087A07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83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4B6-44CF-4C5C-B20D-BE174EC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940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668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940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668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E01-68FC-48B6-935E-EA90BF0B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be2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-360"/>
            <a:ext cx="6705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be2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be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AE9-51F2-4BD0-9252-19AC125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83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94848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83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940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6680" y="160020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1940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6680" y="3948480"/>
            <a:ext cx="215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5DE-15F6-4C1E-B5BB-35572528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C03-218A-4BCF-B9C2-D8C23B6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0F8-3189-4ACF-A785-84DEB6A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-360"/>
            <a:ext cx="6705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be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7D7-77F4-4487-ADA0-531F497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A6E-BDA2-4260-A256-0517F66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8320" y="394848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A7B-0B02-4A53-BF64-6DDE013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8320" y="1600200"/>
            <a:ext cx="3272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6705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5AE-2DE5-4E6A-AAFC-3F94756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c2229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c2229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c2229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c2229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1EF-6B22-4A92-9CED-A275C5F094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15908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9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8000" y="5013360"/>
            <a:ext cx="1371600" cy="12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-6934320" y="-1523880"/>
            <a:ext cx="22580640" cy="1188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be2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ebe2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701720"/>
            <a:ext cx="7200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5f5f"/>
                </a:solidFill>
                <a:latin typeface="Georgia"/>
              </a:rPr>
              <a:t>Всемирный день </a:t>
            </a:r>
            <a:br>
              <a:rPr sz="5400"/>
            </a:br>
            <a:r>
              <a:rPr b="0" lang="ru-RU" sz="5400" spc="-1" strike="noStrike">
                <a:solidFill>
                  <a:srgbClr val="5f5f5f"/>
                </a:solidFill>
                <a:latin typeface="Georgia"/>
              </a:rPr>
              <a:t>юзабилити в России</a:t>
            </a:r>
            <a:br>
              <a:rPr sz="4800"/>
            </a:br>
            <a:r>
              <a:rPr b="0" i="1" lang="ru-RU" sz="4000" spc="-1" strike="noStrike">
                <a:solidFill>
                  <a:srgbClr val="5f5f5f"/>
                </a:solidFill>
                <a:latin typeface="Georgia"/>
              </a:rPr>
              <a:t>Конференция в рамках</a:t>
            </a:r>
            <a:br>
              <a:rPr sz="4000"/>
            </a:br>
            <a:r>
              <a:rPr b="0" i="1" lang="ru-RU" sz="4000" spc="-1" strike="noStrike">
                <a:solidFill>
                  <a:srgbClr val="5f5f5f"/>
                </a:solidFill>
                <a:latin typeface="Georgia"/>
              </a:rPr>
              <a:t>празднования </a:t>
            </a:r>
            <a:r>
              <a:rPr b="0" i="1" lang="en-US" sz="4000" spc="-1" strike="noStrike">
                <a:solidFill>
                  <a:srgbClr val="5f5f5f"/>
                </a:solidFill>
                <a:latin typeface="Georgia"/>
              </a:rPr>
              <a:t>WUD’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4869000"/>
            <a:ext cx="7272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Georgia"/>
              </a:rPr>
              <a:t>Открытие конферен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Georgia"/>
              </a:rPr>
              <a:t>Иван Бурмистров (</a:t>
            </a:r>
            <a:r>
              <a:rPr b="0" i="1" lang="en-US" sz="2800" spc="-1" strike="noStrike">
                <a:solidFill>
                  <a:srgbClr val="3366cc"/>
                </a:solidFill>
                <a:latin typeface="Georgia"/>
              </a:rPr>
              <a:t>RusCHI</a:t>
            </a:r>
            <a:r>
              <a:rPr b="0" i="1" lang="ru-RU" sz="2800" spc="-1" strike="noStrike">
                <a:solidFill>
                  <a:srgbClr val="3366cc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224000" cy="81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115920"/>
            <a:ext cx="56674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мирный день юзабили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1989000"/>
            <a:ext cx="6705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ся с 2005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210 мероприятий в 39 стран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виз: Сделаем жизнь лёгко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224000" cy="815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63640" y="747720"/>
            <a:ext cx="4896000" cy="116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908000" y="4005360"/>
            <a:ext cx="48484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торы: 1С и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sC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06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sCHI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ссийское отделение международной организац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CH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 on Computer-Human Interact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, являющейся секцией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M (Association for Computing Machine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диняет российских специалистов в области изучения и проектирования интерактивных сист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с 2001 года как неформальное объеди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фициально зарегистрировано в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c2229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. информация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igchi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2240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1:42:07Z</dcterms:created>
  <dc:creator/>
  <dc:description/>
  <cp:keywords/>
  <dc:language>en-US</dc:language>
  <cp:lastModifiedBy>Ivan Burmistrov</cp:lastModifiedBy>
  <dcterms:modified xsi:type="dcterms:W3CDTF">2006-11-13T19:43:04Z</dcterms:modified>
  <cp:revision>99</cp:revision>
  <dc:subject/>
  <dc:title>PowerPoint Presentation</dc:title>
</cp:coreProperties>
</file>