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85F-C2ED-4DEA-9390-C8575A31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623-1E32-4EFA-9015-5F462176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564-797F-4F74-B772-BF4F86A0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279-BC96-4C8F-9848-9A0FCD48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3F9-5012-4E1D-B5C3-E1EE0523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62A-24BA-4436-B25E-0506775D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375-ECF7-45F9-8D5C-19B0C484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DD1-F81B-4361-806F-A0266D49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29A-4062-43B4-9956-7B49B7D9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408-C086-4208-A9B8-A549591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470-A9EA-4946-99CD-9907F62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510-7578-4413-AEE3-F44F715F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DB90-9FD7-477D-8C72-2D9603327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220680"/>
            <a:ext cx="2649600" cy="39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8680" cy="3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84240" y="2503440"/>
            <a:ext cx="2147760" cy="219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2000" y="2533680"/>
            <a:ext cx="2147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74600"/>
            <a:ext cx="2952720" cy="446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8680" cy="32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12000" y="1268280"/>
            <a:ext cx="2147760" cy="2190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17800" y="349416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В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984240" y="1238400"/>
            <a:ext cx="2147760" cy="219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52160" y="349416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Коп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2880" y="5654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Перемес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9240" y="566100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Переиме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7840" y="4221000"/>
            <a:ext cx="108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083120"/>
            <a:ext cx="108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74600"/>
            <a:ext cx="2952720" cy="44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8680" cy="32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71640" y="1268280"/>
            <a:ext cx="2147760" cy="2190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71640" y="4118040"/>
            <a:ext cx="214776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012000" y="1238400"/>
            <a:ext cx="2147760" cy="2190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012000" y="4149720"/>
            <a:ext cx="2147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74600"/>
            <a:ext cx="2952720" cy="446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8680" cy="3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03520" y="2678040"/>
            <a:ext cx="2147760" cy="219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03880" y="2678040"/>
            <a:ext cx="2147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74600"/>
            <a:ext cx="2952720" cy="446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8680" cy="32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214776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292720" y="2678040"/>
            <a:ext cx="2147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174600"/>
            <a:ext cx="2952720" cy="446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8680" cy="32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92360" y="2678040"/>
            <a:ext cx="2147760" cy="219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292720" y="2678040"/>
            <a:ext cx="2147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74600"/>
            <a:ext cx="2952720" cy="446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8680" cy="32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682640" y="2421000"/>
            <a:ext cx="2168640" cy="2190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303880" y="3068640"/>
            <a:ext cx="2147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9:47:29Z</dcterms:created>
  <dc:creator>alexander</dc:creator>
  <dc:description/>
  <dc:language>en-US</dc:language>
  <cp:lastModifiedBy>Ivan Boyko</cp:lastModifiedBy>
  <dcterms:modified xsi:type="dcterms:W3CDTF">2006-11-14T13:14:57Z</dcterms:modified>
  <cp:revision>19</cp:revision>
  <dc:subject/>
  <dc:title>Slide 1</dc:title>
</cp:coreProperties>
</file>