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PROJCTOR.WAV" ContentType="audio/x-wav"/>
  <Override PartName="/ppt/media/image6.png" ContentType="image/png"/>
  <Override PartName="/ppt/media/image11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A77-0991-4941-AEE4-A6F4FA08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497-5822-483F-A395-3BBA681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249-07F7-4B7D-A1D3-9BC2AD19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D94-C1CB-4B92-88C1-BBD60D11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635A-6F3B-4C3F-A12C-4B5EA4BA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8E28-0138-48F6-BD56-3CB8F05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29E-3F1D-4832-9761-49AD6450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93DE-2729-4E52-B1B3-C5CE591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B1A1-0854-4D2E-82EE-E902CCBB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4AF1-7DBE-47CB-9C5D-4095F37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4D8-37BE-4586-B990-3A795F2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65F-C9A6-4DCA-A6BD-F2187266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300B-9A06-4C5E-8468-932B58C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5104-3311-443B-9720-9E1F829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5D26-0143-41C5-B663-E33CF9D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D76E-8ECA-4FF1-A417-45C258F9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468-05A3-4573-8D1C-E523FEDB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4EA-0E0D-4C50-88AC-53BDFCD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98D-64CF-4C31-8013-EE16DBB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CFC-FDC5-47BF-A2EA-914814B9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EAF-7FA9-40B8-BA57-B557B09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B07-11A5-46FB-AFC9-94BBE40C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E8E-765D-4108-BFA9-A202362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1DF-3649-4F88-8D72-DD37791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55DA-147E-42E6-9D1C-82274C93523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8ED-847A-4E19-A499-AE2D6EE39AF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7743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Tahoma"/>
              </a:rPr>
              <a:t>Конференция</a:t>
            </a:r>
            <a:br>
              <a:rPr sz="4000"/>
            </a:br>
            <a:r>
              <a:rPr b="1" i="1" lang="ru-RU" sz="4000" spc="-1" strike="noStrike">
                <a:solidFill>
                  <a:srgbClr val="402000"/>
                </a:solidFill>
                <a:latin typeface="Tahoma"/>
              </a:rPr>
              <a:t> посвященная Всемирному Дню Юзабилити в России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08366"/>
                </a:solidFill>
                <a:latin typeface="Times New Roman"/>
              </a:rPr>
              <a:t>Круглый стол</a:t>
            </a:r>
            <a:br>
              <a:rPr sz="3600"/>
            </a:b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Что важнее: удобство использование или простота разработки продукта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366"/>
                </a:solidFill>
                <a:latin typeface="Times New Roman"/>
              </a:rPr>
              <a:t>(Ноябрь 14, 2006)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366"/>
                </a:solidFill>
                <a:latin typeface="Times New Roman"/>
              </a:rPr>
              <a:t>Андреев Виктор Николаевич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Что займет меньше времени - нагрев воды в микроволновке в течение 1 минуты и 10 секунд или в течение 1 минуты и 11 секунд? С точки зрения микроволновки, 1 минута и 10 секунд - единственно верный ответ. Однако с точки зрения пользователя этой микроволновки 1 минута и 11 секунд быстрее. Почему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36450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Потому что в первом случае пользователь должен нажать кнопку "1" дважды, затем найти взглядом кнопку "0", переместить палец на нее, и нажать ее один раз. Во втором случае пользователь просто жмет одну и ту же кнопку - копку "1" - три раза подряд. Обычно, для нахождения кнопки "0" требуется более одной секунды. Таким образом, вода нагревается быстрее, но "готовится" дольше.</a:t>
            </a:r>
            <a:br>
              <a:rPr sz="2400"/>
            </a:b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755-E55C-4CB5-8CAA-063970FB5315}" type="slidenum">
              <a:t>10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Анекдот по поводу реализационной модел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риходят в инструментальный цех рабочие просят изготовить новое приспособление для завинчивания гайки в фюзеляже самолета. Их в цехе спрашивают, для какого самолета, они отвечают СУ-23, так вы уже его выпускаете пятнадцать лет. Как раньше то закручивали без приспособления. В ответ слышат неожиданный ответ, был у нас на сборке мужик, так у него сломанная рука неправильно срослась, но так что он единственный мог к этой гайке подобраться. Он пятнадцать лет ее и закручивал, а теперь ушел на пенсию, никто не может за него это сделать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8E3-836D-45F9-9A16-D31BBA93EE81}" type="slidenum">
              <a:t>11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Это нормально для разработчика, но не понятно пользователю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CD2-15A6-4C3E-98D8-CC4CCF967CAC}" type="slidenum">
              <a:t>12</a:t>
            </a:fld>
          </a:p>
        </p:txBody>
      </p:sp>
    </p:spTree>
  </p:cSld>
  <p:transition>
    <p:strips dir="lu"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Простое для реализации, но не удобное сообщение об ошибках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1523880"/>
          <a:ext cx="6705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05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48E-C22D-49F5-8862-4F916C9B15ED}" type="slidenum">
              <a:t>13</a:t>
            </a:fld>
          </a:p>
        </p:txBody>
      </p:sp>
    </p:spTree>
  </p:cSld>
  <p:transition>
    <p:strips dir="lu"/>
    <p:sndAc>
      <p:stSnd>
        <p:snd r:embed="rId3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Case 1 </a:t>
            </a: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Игнорирование пользовательских требований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зработчик (или системный аналитик) самостоятельно разбивает задачу на окна, сценарий работы не строитс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место создания сценария пользователя в диаграмме взаимодействи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43400" y="1676520"/>
          <a:ext cx="3843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676520"/>
                    <a:ext cx="3843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BAE-3E5A-412F-B68C-C3504A5F1F36}" type="slidenum">
              <a:t>14</a:t>
            </a:fld>
          </a:p>
        </p:txBody>
      </p:sp>
    </p:spTree>
  </p:cSld>
  <p:transition>
    <p:strips dir="lu"/>
    <p:sndAc>
      <p:stSnd>
        <p:snd r:embed="rId3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Case 2 </a:t>
            </a: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Добавление «лишней операции»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71600" y="3962520"/>
          <a:ext cx="434340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62520"/>
                    <a:ext cx="434340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371600" y="5410080"/>
          <a:ext cx="556272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5410080"/>
                    <a:ext cx="5562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371600" y="1828800"/>
          <a:ext cx="556272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1828800"/>
                    <a:ext cx="5562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BEB-D7CE-4078-8D2D-026507203885}" type="slidenum">
              <a:t>15</a:t>
            </a:fld>
          </a:p>
        </p:txBody>
      </p:sp>
    </p:spTree>
  </p:cSld>
  <p:transition>
    <p:strips dir="lu"/>
    <p:sndAc>
      <p:stSnd>
        <p:snd r:embed="rId7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Case 3 </a:t>
            </a: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Вывод графика вместо данных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71600" y="3962520"/>
          <a:ext cx="591012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62520"/>
                    <a:ext cx="59101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219320" y="1905120"/>
          <a:ext cx="623088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05120"/>
                    <a:ext cx="62308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C4F-D936-47BE-B50D-F588EBE90453}" type="slidenum">
              <a:t>16</a:t>
            </a:fld>
          </a:p>
        </p:txBody>
      </p:sp>
    </p:spTree>
  </p:cSld>
  <p:transition>
    <p:strips dir="lu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Case 4 </a:t>
            </a: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Отказ от юзабилити тестирования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ремя на юзабилити-тестирование не выделяется, сложность организации, отсутствие оборудован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место проведение оценки готового продукта на пользователях, т.к. опасность больших доработо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C9C-7C18-4648-8B83-9429CE8B91D8}" type="slidenum">
              <a:t>17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3680" y="271440"/>
          <a:ext cx="81946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271440"/>
                    <a:ext cx="81946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745-ECE0-4AD4-8DF2-5877BC4DDA7E}" type="slidenum">
              <a:t>2</a:t>
            </a:fld>
          </a:p>
        </p:txBody>
      </p:sp>
    </p:spTree>
  </p:cSld>
  <p:transition>
    <p:strips dir="lu"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580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Модели системы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нальд Норман (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Design of Everyday Things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, 1988) предложил различать три модели информационной системы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2016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модель проектировщика, который описывает концепцию системы,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2016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модель разработки, которая реализована разработчико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2016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модель пользователя, которую формирует пользователь, работая с интерфейсом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FBC-A3BE-4210-8099-92AE523972ED}" type="slidenum">
              <a:t>3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Концептуальная и ментальная модели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3809880"/>
            <a:ext cx="1676520" cy="76212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cubicBezTo>
                  <a:pt x="19" y="70"/>
                  <a:pt x="19" y="335"/>
                  <a:pt x="115" y="423"/>
                </a:cubicBezTo>
                <a:cubicBezTo>
                  <a:pt x="211" y="511"/>
                  <a:pt x="480" y="506"/>
                  <a:pt x="576" y="528"/>
                </a:cubicBezTo>
              </a:path>
            </a:pathLst>
          </a:custGeom>
          <a:noFill/>
          <a:ln w="381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383600">
            <a:off x="5436000" y="3324960"/>
            <a:ext cx="1014480" cy="167328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cubicBezTo>
                  <a:pt x="19" y="70"/>
                  <a:pt x="19" y="335"/>
                  <a:pt x="115" y="423"/>
                </a:cubicBezTo>
                <a:cubicBezTo>
                  <a:pt x="211" y="511"/>
                  <a:pt x="480" y="506"/>
                  <a:pt x="576" y="528"/>
                </a:cubicBezTo>
              </a:path>
            </a:pathLst>
          </a:custGeom>
          <a:noFill/>
          <a:ln w="381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6068400">
            <a:off x="5301720" y="3084120"/>
            <a:ext cx="1066680" cy="160020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cubicBezTo>
                  <a:pt x="19" y="70"/>
                  <a:pt x="19" y="335"/>
                  <a:pt x="115" y="423"/>
                </a:cubicBezTo>
                <a:cubicBezTo>
                  <a:pt x="211" y="511"/>
                  <a:pt x="480" y="506"/>
                  <a:pt x="576" y="528"/>
                </a:cubicBezTo>
              </a:path>
            </a:pathLst>
          </a:custGeom>
          <a:noFill/>
          <a:ln w="381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141720"/>
            <a:ext cx="1682640" cy="5922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Пользовател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048120"/>
            <a:ext cx="1392480" cy="6858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Дизайнер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1981080"/>
            <a:ext cx="2881440" cy="838440"/>
          </a:xfrm>
          <a:prstGeom prst="cloudCallout">
            <a:avLst>
              <a:gd name="adj1" fmla="val -20907"/>
              <a:gd name="adj2" fmla="val 73486"/>
            </a:avLst>
          </a:prstGeom>
          <a:solidFill>
            <a:srgbClr val="ff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Концептуальная модел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981080"/>
            <a:ext cx="2306880" cy="838440"/>
          </a:xfrm>
          <a:prstGeom prst="cloudCallout">
            <a:avLst>
              <a:gd name="adj1" fmla="val -13800"/>
              <a:gd name="adj2" fmla="val 73486"/>
            </a:avLst>
          </a:prstGeom>
          <a:solidFill>
            <a:srgbClr val="ff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Ментальная модель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876920"/>
            <a:ext cx="2206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Модель разработк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4267080"/>
            <a:ext cx="1177920" cy="6858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74880" y="43657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Превращается в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629080"/>
            <a:ext cx="4114800" cy="419040"/>
          </a:xfrm>
          <a:custGeom>
            <a:avLst/>
            <a:gdLst/>
            <a:ahLst/>
            <a:rect l="l" t="t" r="r" b="b"/>
            <a:pathLst>
              <a:path w="1632" h="264">
                <a:moveTo>
                  <a:pt x="0" y="263"/>
                </a:moveTo>
                <a:cubicBezTo>
                  <a:pt x="136" y="221"/>
                  <a:pt x="298" y="0"/>
                  <a:pt x="815" y="12"/>
                </a:cubicBezTo>
                <a:cubicBezTo>
                  <a:pt x="1332" y="24"/>
                  <a:pt x="1462" y="211"/>
                  <a:pt x="1632" y="264"/>
                </a:cubicBezTo>
              </a:path>
            </a:pathLst>
          </a:custGeom>
          <a:noFill/>
          <a:ln w="38160">
            <a:solidFill>
              <a:srgbClr val="402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9440" y="2276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Представление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о ментальной модел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5800" y="450864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Активизируе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существующие знани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7800" y="321300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Проверяе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Arial"/>
              </a:rPr>
              <a:t>свои предположени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829-03D8-41C5-B9AA-9225AD3E1863}" type="slidenum">
              <a:t>4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Модель проектировщи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ектировщик фиксирует пожелания заказчиком (часто это не пользователь) в виде требований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ие данные в ней хранятс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ие операции выполняет система самостоятельн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Что должна делать система при взаимодействии с пользователе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ля описания системы проектировщик использует различного рода диаграммы (классов, сценариев взаимодействия, компонентов и пр.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D54-FC2F-4C41-86EB-E1D7010D24D0}" type="slidenum">
              <a:t>5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Модель разработ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Разработчик переводит требования проектировщика на язык программного кода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Его представление о программе всецело зависит от программных средств хранения и обработки данных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льзовательский интерфейс разработчик воспринимает через средство кодирования ПИ, исходя из набора и возможностей элементов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phical user interface)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2AA-A915-469F-9FA6-C42EF5B7B303}" type="slidenum">
              <a:t>6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Модель пользовател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истема для пользователя – это то, что он видит и чем оперируе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Что видит пользователь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2196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Окна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2196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оля с данным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 чем работает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2196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нопки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2196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лавиатур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1F0-C8CE-4139-858B-1DD0CD52660A}" type="slidenum">
              <a:t>7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Различие представлений о </a:t>
            </a:r>
            <a:br>
              <a:rPr sz="4000"/>
            </a:b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системе в процессе разработки ПО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12980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852-9CC0-4530-99CD-E58379637BB4}" type="slidenum">
              <a:t>8</a:t>
            </a:fld>
          </a:p>
        </p:txBody>
      </p:sp>
    </p:spTree>
  </p:cSld>
  <p:transition>
    <p:strips dir="lu"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Реализационная модель пользовательского интерфейс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и интерфейсы описаны в терминах, отражающих их конструкцию. Чтобы успешно работать с таким интерфейсом, пользователь должен понимать, как работает программа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одавляющее большинство программ в настоящее время демонстрирует нам свое устройство. Они имеют по кнопке на каждую функцию и по диалоговому окну на каждый модуль кода, а их команды и процессы в точности отражают внутренние структуры данных и алгоритмы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6C8-2411-437F-B4D1-8D0FF680E23E}" type="slidenum">
              <a:t>9</a:t>
            </a:fld>
          </a:p>
        </p:txBody>
      </p:sp>
    </p:spTree>
  </p:cSld>
  <p:transition>
    <p:strips dir="lu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1T13:46:18Z</dcterms:created>
  <dc:creator>Victor Andreev</dc:creator>
  <dc:description/>
  <dc:language>en-US</dc:language>
  <cp:lastModifiedBy>Виктор Андреев</cp:lastModifiedBy>
  <cp:lastPrinted>2000-04-21T07:03:45Z</cp:lastPrinted>
  <dcterms:modified xsi:type="dcterms:W3CDTF">2006-11-14T10:05:58Z</dcterms:modified>
  <cp:revision>209</cp:revision>
  <dc:subject/>
  <dc:title>Human-Computer Interaction</dc:title>
</cp:coreProperties>
</file>