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5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3212640"/>
            <a:ext cx="417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5640" y="3513960"/>
            <a:ext cx="417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321264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95840" y="321264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5640" y="351396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895840" y="351396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321264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67920" y="321264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80200" y="321264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5640" y="351396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167920" y="351396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580200" y="351396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55640" y="3212640"/>
            <a:ext cx="4176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55640" y="3212640"/>
            <a:ext cx="41767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3212640"/>
            <a:ext cx="2037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895840" y="3212640"/>
            <a:ext cx="2037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640" y="2420640"/>
            <a:ext cx="4176720" cy="40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321264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895840" y="3212640"/>
            <a:ext cx="2037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55640" y="351396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5640" y="3212640"/>
            <a:ext cx="4176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3212640"/>
            <a:ext cx="2037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895840" y="321264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895840" y="351396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321264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895840" y="321264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55640" y="3513960"/>
            <a:ext cx="417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3212640"/>
            <a:ext cx="417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55640" y="3513960"/>
            <a:ext cx="417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321264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895840" y="321264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5640" y="351396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895840" y="351396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321264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67920" y="321264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80200" y="321264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55640" y="351396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167920" y="351396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3580200" y="351396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5640" y="3212640"/>
            <a:ext cx="41767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5640" y="3212640"/>
            <a:ext cx="2037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895840" y="3212640"/>
            <a:ext cx="2037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5640" y="2420640"/>
            <a:ext cx="4176720" cy="40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321264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895840" y="3212640"/>
            <a:ext cx="2037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5640" y="351396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3212640"/>
            <a:ext cx="2037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895840" y="321264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95840" y="351396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321264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95840" y="3212640"/>
            <a:ext cx="203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3513960"/>
            <a:ext cx="417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5761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8560" y="836640"/>
            <a:ext cx="72723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1111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111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111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54734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Verdana"/>
              </a:rPr>
              <a:t>Дизайн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Verdana"/>
              </a:rPr>
              <a:t>пользовательского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Verdana"/>
              </a:rPr>
              <a:t>интерфейса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Verdana"/>
              </a:rPr>
              <a:t>приложений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Verdana"/>
              </a:rPr>
              <a:t>для мобильной коммерции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50560" y="5156280"/>
            <a:ext cx="5024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c5914"/>
                </a:solidFill>
                <a:latin typeface="Tahoma"/>
              </a:rPr>
              <a:t>Иван Бурмистров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c5914"/>
                </a:solidFill>
                <a:latin typeface="Tahoma"/>
              </a:rPr>
              <a:t>Факультет психологии МГУ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ществующие приложения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pQw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28960" y="981000"/>
            <a:ext cx="508608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24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ществующие приложения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l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viation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2997000"/>
            <a:ext cx="8280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Arial"/>
              </a:rPr>
              <a:t>Запустите ролик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Courier New"/>
              </a:rPr>
              <a:t>Visuals\</a:t>
            </a:r>
            <a:r>
              <a:rPr b="0" lang="ru-RU" sz="2000" spc="-1" strike="noStrike">
                <a:solidFill>
                  <a:srgbClr val="111111"/>
                </a:solidFill>
                <a:latin typeface="Courier New"/>
              </a:rPr>
              <a:t>MalmoVeiviser_test3.swf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ществующие приложения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l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viation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609300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Arial"/>
              </a:rPr>
              <a:t>Это видеоролик. Если он не запустится по двойному клику, откройте файл </a:t>
            </a:r>
            <a:r>
              <a:rPr b="0" lang="en-US" sz="1600" spc="-1" strike="noStrike">
                <a:solidFill>
                  <a:srgbClr val="111111"/>
                </a:solidFill>
                <a:latin typeface="Courier New"/>
              </a:rPr>
              <a:t>Visuals\</a:t>
            </a:r>
            <a:r>
              <a:rPr b="0" lang="ru-RU" sz="1600" spc="-1" strike="noStrike">
                <a:solidFill>
                  <a:srgbClr val="111111"/>
                </a:solidFill>
                <a:latin typeface="Courier New"/>
              </a:rPr>
              <a:t>branova_low.wmv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264360" cy="48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66978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ш дизайн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484360" y="1195560"/>
            <a:ext cx="4238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6624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ш дизайн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221148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865600" y="907920"/>
            <a:ext cx="221112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364000" y="907920"/>
            <a:ext cx="221148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95280" y="3860640"/>
            <a:ext cx="2211480" cy="2743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843280" y="3860640"/>
            <a:ext cx="221148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5364000" y="3860640"/>
            <a:ext cx="2211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6624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ш дизайн 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2211120" cy="2743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843280" y="907920"/>
            <a:ext cx="2211480" cy="2743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364000" y="907920"/>
            <a:ext cx="2211480" cy="2743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" y="3860640"/>
            <a:ext cx="2211120" cy="2743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2843280" y="3860640"/>
            <a:ext cx="2211480" cy="274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5364000" y="3860640"/>
            <a:ext cx="2211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59785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35280" y="906120"/>
            <a:ext cx="69847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Weiss (2002) </a:t>
            </a:r>
            <a:r>
              <a:rPr b="0" i="1" lang="en-US" sz="2800" spc="-1" strike="noStrike">
                <a:solidFill>
                  <a:srgbClr val="111111"/>
                </a:solidFill>
                <a:latin typeface="Arial"/>
              </a:rPr>
              <a:t>Handheld Usability</a:t>
            </a: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, Chichester: Wiley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Lindholm, Keinonen &amp; Kiljander (2003) </a:t>
            </a:r>
            <a:r>
              <a:rPr b="0" i="1" lang="en-US" sz="2800" spc="-1" strike="noStrike">
                <a:solidFill>
                  <a:srgbClr val="111111"/>
                </a:solidFill>
                <a:latin typeface="Arial"/>
              </a:rPr>
              <a:t>Mobile Usability: How Nokia Changed the Face of the Mobile Phone</a:t>
            </a: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, McGraw-Hil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Jones &amp; Marsden (2006) </a:t>
            </a:r>
            <a:r>
              <a:rPr b="0" i="1" lang="en-US" sz="2800" spc="-1" strike="noStrike">
                <a:solidFill>
                  <a:srgbClr val="111111"/>
                </a:solidFill>
                <a:latin typeface="Arial"/>
              </a:rPr>
              <a:t>Mobile Interaction Design</a:t>
            </a: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, Chichester: Wiley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Lumsden (2008) </a:t>
            </a:r>
            <a:r>
              <a:rPr b="0" i="1" lang="en-US" sz="2800" spc="-1" strike="noStrike">
                <a:solidFill>
                  <a:srgbClr val="111111"/>
                </a:solidFill>
                <a:latin typeface="Arial"/>
              </a:rPr>
              <a:t>Handbook of Research on User Interface Design and Evaluation for Mobile Technology (2 Volumes)</a:t>
            </a: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Information Science Reference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4920" y="501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08000" y="7650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108000" y="21337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9640" y="2276640"/>
            <a:ext cx="4680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акт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ivan@rts.r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1440" y="188640"/>
            <a:ext cx="8207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цесс покупки а/билетов в интерне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7640" y="1557360"/>
            <a:ext cx="24894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Форма поиск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360" y="2421000"/>
            <a:ext cx="4680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Просмотр найденных рейсов и выбор полёт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1800000" cy="136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81160" y="2274840"/>
            <a:ext cx="1806480" cy="137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195640" y="3357720"/>
            <a:ext cx="1803240" cy="1377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43280" y="3716280"/>
            <a:ext cx="215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Пассажир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059280" y="4292640"/>
            <a:ext cx="1809720" cy="1324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435640" y="4581360"/>
            <a:ext cx="151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Оплат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780000" y="5229360"/>
            <a:ext cx="1800000" cy="1212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24360" y="5373720"/>
            <a:ext cx="273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Подтверждени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оплат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421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c5914"/>
                </a:solidFill>
                <a:latin typeface="Arial"/>
              </a:rPr>
              <a:t>Ключевые факторы м-коммерции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0920" y="1193760"/>
            <a:ext cx="68421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Прогнозы, дававшиеся 10 лет назад, что первое десятилетие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века станет десятилетем мобильных приложений, не оправдались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Выяснилось, что М </a:t>
            </a:r>
            <a:r>
              <a:rPr b="0" lang="ru-RU" sz="2400" spc="-1" strike="noStrike">
                <a:solidFill>
                  <a:srgbClr val="111111"/>
                </a:solidFill>
                <a:latin typeface="Arial"/>
                <a:ea typeface="Arial"/>
              </a:rPr>
              <a:t>≠</a:t>
            </a: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 Е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На передний план вышла проблема, как заставить потребителей использовать мобильные приложения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Добавление стоимости (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value-adding</a:t>
            </a: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), субъективно воспринимаемой потребителем полезности продукта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Поставщики мобильных услуг ожидают невероятных достижений, но потребители так не считают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9138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c5914"/>
                </a:solidFill>
                <a:latin typeface="Arial"/>
              </a:rPr>
              <a:t>Ключевые факторы м-коммерции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0920" y="1193760"/>
            <a:ext cx="68421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Уже ранние исследования </a:t>
            </a: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wap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-приложений показали невысокую готовность потребителей к использовании этой технологии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Для успеха м-коммерции необходимо понять, когда, где и кому именно будут нужны м-сервисы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Требуются: тщательное сегментирование рынка, использование возможностей </a:t>
            </a: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location awareness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, повышение юзабильности и эмоциональной привлекательности продуктов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исследования (Oulasvirt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, 2005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965160"/>
            <a:ext cx="2605320" cy="555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348000" y="836640"/>
            <a:ext cx="40957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09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угое исследование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ye square GmbH, 200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4920" y="836640"/>
            <a:ext cx="91090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08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комендации по м-дизайну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Сделайте продукт </a:t>
            </a:r>
            <a:r>
              <a:rPr b="1" i="1" lang="ru-RU" sz="2800" spc="-1" strike="noStrike">
                <a:solidFill>
                  <a:srgbClr val="111111"/>
                </a:solidFill>
                <a:latin typeface="Arial"/>
              </a:rPr>
              <a:t>полезным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 для потребителя в тех контекстах использования, для которых он предназначен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Редуцируйте функционал по максимуму, не пытайтесь скопировать свой вебсайт в мобильник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Учитывайте разнообразие моделей мобильных устройств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Разбивайте интерфейс на шаги, обеспечьте их визуальное отличие друг от друга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Сделайте удобным возврат на предыдущий шаг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66978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комендации по м-дизайну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Сделайте интерфейс максимально простым: у пользователя должно быть чувство контроля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Обеспечьте возможности персонализации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Предпочитайте скроллирование кликам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Если экран скроллируется, удалите все пустые строки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Минимизируйте текстовый ввод, предлагайте выбор вариантов из списка (если он короче 20 позиций)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Кликабельная графика должна выглядеть как кликабельная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Постоянно тестируйте продукт на реальных пользователях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гментирование пользова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Для целей нашего проекта требовалось определение потенциальных пользователей мобильного бронирования авиабилетов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По счастью, уже имелось именно такое исследование (</a:t>
            </a: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Lubbe &amp; Louw 2009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): готовность путешественников-туристов использовать мобильное бронирование невысока, однако, деловые путешественники смотрят на подобный продукт более позитивно (при этом бизнес-путешественники с более высоким уровнем образования несколько скептичнее менее образованных)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22:41:11Z</dcterms:created>
  <dc:creator>Ivan Burmistrov</dc:creator>
  <dc:description/>
  <dc:language>en-US</dc:language>
  <cp:lastModifiedBy>Ivan Burmistrov</cp:lastModifiedBy>
  <dcterms:modified xsi:type="dcterms:W3CDTF">2009-05-14T16:20:27Z</dcterms:modified>
  <cp:revision>20</cp:revision>
  <dc:subject/>
  <dc:title>Name of presentation</dc:title>
</cp:coreProperties>
</file>